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5E24-F176-4811-8839-285E30D8C98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l.wikipedia.org/w/index.php?title=&#923;&#953;&#959;&#973;&#953;&#962;_&#924;&#960;&#943;&#957;&#966;&#959;&#961;&#957;&#964;&amp;action=edit&amp;redlink=1" TargetMode="External"/><Relationship Id="rId2" Type="http://schemas.openxmlformats.org/officeDocument/2006/relationships/hyperlink" Target="http://el.wikipedia.org/w/index.php?title=&#916;&#953;&#945;&#948;&#953;&#954;&#945;&#963;&#964;&#953;&#954;&#942;_&#945;&#961;&#967;&#945;&#953;&#959;&#955;&#959;&#947;&#943;&#945;&amp;action=edit&amp;redlink=1" TargetMode="External"/><Relationship Id="rId3" Type="http://schemas.openxmlformats.org/officeDocument/2006/relationships/hyperlink" Target="http://el.wikipedia.org/w/index.php?title=&#913;&#954;&#961;&#953;&#946;&#949;&#943;&#962;_&#949;&#960;&#953;&#963;&#964;&#942;&#956;&#949;&#962;&amp;action=edit&amp;redlink=1" TargetMode="External"/><Relationship Id="rId4" Type="http://schemas.openxmlformats.org/officeDocument/2006/relationships/hyperlink" Target="http://el.wikipedia.org/w/index.php?title=&#933;&#960;&#972;&#952;&#949;&#963;&#951;&amp;action=edit&amp;redlink=1" TargetMode="External"/><Relationship Id="rId5" Type="http://schemas.openxmlformats.org/officeDocument/2006/relationships/hyperlink" Target="http://el.wikipedia.org/wiki/&#917;&#960;&#953;&#963;&#964;&#951;&#956;&#959;&#957;&#953;&#954;&#942;_&#956;&#941;&#952;&#959;&#948;&#959;&#962;"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εύονται τη φύση και τον άνθρωπο, μελετούν κυρίως τη δομή και τις μεταβολές της ύλ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ή και Χημε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Μέσω της φυσικοχημικής σύστασης των υλικών μπορούν να μελετηθούν η προέλευση, η ιδιαιτερότητα, η ανθεκτικότητα κάποιω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Γεωλογία και η Γεωφυσική πραγματεύεται τη σύσταση, το σχηματισμό και τις μεταβολές του γεωπεριβάλλοντος, όπως τα είδη των πετρωμάτων, το υπέδαφος, το κλίμα και τις φυσικές καταστροφ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λογία και γεωπονία μελετούν τη χλωρίδα και την πανίδα ενός τόπου, μερικώς συμπεριλαμβάνεται και η ανασύσταση του παλαιοπεριβάλλον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ν αστρονομία μελετώνται θρησκευτικές και λατρευτικές συνήθειες, ναυτιλιακά επιτεύγματα, που πιστοποιούν το βαθμό προόδου του ανθρώπου του απώτερου παρελθόντος σε σχέση με τη μελέτη των ουρανίων σωμάτ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χρι τις αρχές του 20ου αι. η Αρχαιολογία εθεωρείτο κλάδος των Τεχνών. Από τα μέσα του 20ου αι. και στο εξής η Αρχαιολογία διείσδυσε αργά και σταθερά στο χώρο του επιστημονικού πνεύματος, γεγονός που σηματοδοτεί τη χρήση των φυσικών επιστημών στην επίλυση αρχαιολογικών προβλημάτων, τα οποία είτε αντιμετώπιζε ο αρχαιολόγος είτε τροφοδοτούσε ο θετικός επιστήμ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αρχαιολόγος, με τα νέα δεδομένα, δεν πρέπει να χάσει την επαφή με το αντικείμενο, διότι, πάρά τα αποτελέσματα που του δίνει ο ειδικευμένος πλέον αρχαιομέτρης, είναι εκείνος που έχει τον τελευταίο λόγο, όλο τον έλεγχο και το συντονισμό στην ερμηνεία όλων των αποτελεσμάτ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ο το θέμα της εκπαίδευσης της Νέας Αρχαιολογίας αποδίδει ιδιαίτερο βάρος στον Αρχαιολόγο.  Πρέπει όμως να καθοριστεί σε τι ακριβώς πρέπει να επικεντρωθεί ο αρχαιολόγος και να καθοριστούν τα βασικά στοιχεία του νέου προγράμματος σπουδ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Νέα αρχαιολογ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δεκαετία 1960-1970 νέοι αμερικανοί αρχαιολόγοι όπως ο </a:t>
            </a:r>
            <a:r>
              <a:rPr b="0" lang="el-GR" sz="1200" spc="-1" strike="noStrike" u="sng">
                <a:solidFill>
                  <a:srgbClr val="ccccff"/>
                </a:solidFill>
                <a:uFillTx/>
                <a:latin typeface="Times New Roman"/>
                <a:hlinkClick r:id="rId1"/>
              </a:rPr>
              <a:t>Λιούις Μπίνφορντ</a:t>
            </a:r>
            <a:r>
              <a:rPr b="0" lang="el-GR" sz="1200" spc="-1" strike="noStrike">
                <a:solidFill>
                  <a:srgbClr val="000000"/>
                </a:solidFill>
                <a:latin typeface="Times New Roman"/>
              </a:rPr>
              <a:t> (Lewis Binford), αντέδρασαν στα </a:t>
            </a:r>
            <a:r>
              <a:rPr b="0" i="1" lang="el-GR" sz="1200" spc="-1" strike="noStrike">
                <a:solidFill>
                  <a:srgbClr val="000000"/>
                </a:solidFill>
                <a:latin typeface="Times New Roman"/>
              </a:rPr>
              <a:t>παραδείγματα</a:t>
            </a:r>
            <a:r>
              <a:rPr b="0" lang="el-GR" sz="1200" spc="-1" strike="noStrike">
                <a:solidFill>
                  <a:srgbClr val="000000"/>
                </a:solidFill>
                <a:latin typeface="Times New Roman"/>
              </a:rPr>
              <a:t> της πολιτισμικής ιστορικής αρχαιολογίας. Πρότειναν μια "Νέα άρχαιολογία", περισσότερο "επιστημονική" και "ανθρωπολογική". Είδαν τον πολιτισμό ως ένα σύνολο συμπεριφορικών διαδικασιών και παραδόσεων. Συν τω χρόνω τούτη η άποψη έφερε στο προσκήνιο τον όρο </a:t>
            </a:r>
            <a:r>
              <a:rPr b="0" lang="el-GR" sz="1200" spc="-1" strike="noStrike" u="sng">
                <a:solidFill>
                  <a:srgbClr val="ccccff"/>
                </a:solidFill>
                <a:uFillTx/>
                <a:latin typeface="Times New Roman"/>
                <a:hlinkClick r:id="rId2"/>
              </a:rPr>
              <a:t>διαδικαστική αρχαιολογία</a:t>
            </a:r>
            <a:r>
              <a:rPr b="0" lang="el-GR" sz="1200" spc="-1" strike="noStrike">
                <a:solidFill>
                  <a:srgbClr val="000000"/>
                </a:solidFill>
                <a:latin typeface="Times New Roman"/>
              </a:rPr>
              <a:t>. Οι υποστηρικτές της συγκεκριμένης θεωρίας δανείστηκαν από τις </a:t>
            </a:r>
            <a:r>
              <a:rPr b="0" lang="el-GR" sz="1200" spc="-1" strike="noStrike" u="sng">
                <a:solidFill>
                  <a:srgbClr val="ccccff"/>
                </a:solidFill>
                <a:uFillTx/>
                <a:latin typeface="Times New Roman"/>
                <a:hlinkClick r:id="rId3"/>
              </a:rPr>
              <a:t>ακριβείς επιστήμες</a:t>
            </a:r>
            <a:r>
              <a:rPr b="0" lang="el-GR" sz="1200" spc="-1" strike="noStrike">
                <a:solidFill>
                  <a:srgbClr val="000000"/>
                </a:solidFill>
                <a:latin typeface="Times New Roman"/>
              </a:rPr>
              <a:t> την ιδέα της εξέτασης και της δοκιμής της </a:t>
            </a:r>
            <a:r>
              <a:rPr b="0" lang="el-GR" sz="1200" spc="-1" strike="noStrike" u="sng">
                <a:solidFill>
                  <a:srgbClr val="ccccff"/>
                </a:solidFill>
                <a:uFillTx/>
                <a:latin typeface="Times New Roman"/>
                <a:hlinkClick r:id="rId4"/>
              </a:rPr>
              <a:t>υπόθεση</a:t>
            </a:r>
            <a:r>
              <a:rPr b="0" lang="el-GR" sz="1200" spc="-1" strike="noStrike">
                <a:solidFill>
                  <a:srgbClr val="000000"/>
                </a:solidFill>
                <a:latin typeface="Times New Roman"/>
              </a:rPr>
              <a:t>ς και της </a:t>
            </a:r>
            <a:r>
              <a:rPr b="0" lang="el-GR" sz="1200" spc="-1" strike="noStrike" u="sng">
                <a:solidFill>
                  <a:srgbClr val="ccccff"/>
                </a:solidFill>
                <a:uFillTx/>
                <a:latin typeface="Times New Roman"/>
                <a:hlinkClick r:id="rId5"/>
              </a:rPr>
              <a:t>επιστημονικής μεθόδου</a:t>
            </a:r>
            <a:r>
              <a:rPr b="0" lang="el-GR" sz="1200" spc="-1" strike="noStrike">
                <a:solidFill>
                  <a:srgbClr val="000000"/>
                </a:solidFill>
                <a:latin typeface="Times New Roman"/>
              </a:rPr>
              <a:t>. Πίστευαν ότι ο αρχαιολόγος θα έπρεπε να αναπτύξει μία ή περισσότερες υποθέσεις για τον πολιτισμό που διερευνά και να διεξάγει ανασκαφές με την πρόθεση να ελέγξει την εγκυρότητα των υποθέσεών του βάσει νέων μαρτυριών. Ένας επιπλέον λόγος για την ανάπτυξη της διαδικαστικής αρχαιολογίας ήταν η απογοήτευση των νέων αρχαιολόγων για το γεγονός ότι η μελέτη των πολιτισμών είχε υπερκεράσει τη μελέτη των ίδιων των ανθρώπων. Το ανθρωπολογικό παράδειγμα έδειχνε ότι η ανάπτυξη των </a:t>
            </a:r>
            <a:r>
              <a:rPr b="0" i="1" lang="el-GR" sz="1200" spc="-1" strike="noStrike">
                <a:solidFill>
                  <a:srgbClr val="5f9ea0"/>
                </a:solidFill>
                <a:latin typeface="Times New Roman"/>
              </a:rPr>
              <a:t>εθνικών</a:t>
            </a:r>
            <a:r>
              <a:rPr b="0" lang="el-GR" sz="1200" spc="-1" strike="noStrike">
                <a:solidFill>
                  <a:srgbClr val="000000"/>
                </a:solidFill>
                <a:latin typeface="Times New Roman"/>
              </a:rPr>
              <a:t> ομάδων δεν ήταν πάντα ανάλογη με το αρχαιολογικό αρχεί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0000"/>
                </a:solidFill>
                <a:latin typeface="Times New Roman"/>
              </a:rPr>
              <a:t>[</a:t>
            </a:r>
            <a:r>
              <a:rPr b="0" lang="el-GR" sz="1200" spc="-1" strike="noStrike">
                <a:solidFill>
                  <a:srgbClr val="ff0000"/>
                </a:solidFill>
                <a:latin typeface="Arial"/>
                <a:ea typeface="Arial"/>
              </a:rPr>
              <a:t>el.wikipedia.org/wiki/Αρχαιολογική_θεωρία</a:t>
            </a:r>
            <a:r>
              <a:rPr b="0" lang="el-GR" sz="1200" spc="-1" strike="noStrike">
                <a:solidFill>
                  <a:srgbClr val="ff0000"/>
                </a:solidFill>
                <a:latin typeface="Aria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κατάσταση στην Ελλάδα συναντά βελτίωση τα τελευταία χρόνια. Μέχρι σήμερα τα Πανεπιστημιακά τμήματα θετικών επιστημών δεν προωθούσαν την ίδρυση αρχαιομετρικών εργαστηρίων. Επικεντρώνονταν σε κατευθύνσεις επιστημών που απέφεραν σημαντικά οικονομικά οφέλη και σε τεχνολογίες αιχμής. Από την άλλη πλευρά τα πανεπιστημιακά τμήματα αρχαιολογικής κατεύθυνσης έδιναν προτεραιότητα σε οδηγούς σπουδών που απέβλεπαν στην περαιτέρω θεωρητική κατάρτιση των υποψήφιων Αρχαιολόγ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A8A29-2E11-42FE-B85A-4A0450F1A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6427-22EC-44FC-A6C2-CDFAFB6FA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C767A-CEEB-47DF-A0BF-0D8DFE3C6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E5F8A-83F9-4CC8-BD6A-0CDA04012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BF82-11F6-4BC2-9B7E-57DC827C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FC9E-FDBB-465B-A618-5CF3A816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A21A0-58B9-4857-A798-2C1BF6C1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86DC8-8366-4210-91D2-3FB0D6CD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8AEB-0265-4D94-9186-C5F0B3079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419E-F747-4CDA-96C7-5307CF188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F2D1-C146-426A-96FA-137C7DF5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6F07-AC02-4302-B171-AB25BF8D2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1413-4A4F-45B9-9859-F7D06B703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ΙΑ ΚΑΙ ΘΕΤΙΚΕΣ ΕΠΙΣΤΗΜΕΣ</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χέση Χρονολόγησης και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φάλμα</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gt;Τυχαίο και συστηματικό Σφάλμ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Φυσικές |Επιστήμες</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ραγματεύονται τη φύση και τον ανθρώπινο οργανισμό</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υσική κ Χημεία</a:t>
            </a:r>
            <a:r>
              <a:rPr b="0" lang="en-US" sz="2800" spc="-1" strike="noStrike">
                <a:solidFill>
                  <a:srgbClr val="000000"/>
                </a:solidFill>
                <a:latin typeface="Wingdings"/>
                <a:ea typeface="Wingdings"/>
              </a:rPr>
              <a:t></a:t>
            </a:r>
            <a:r>
              <a:rPr b="0" lang="en-US" sz="2800" spc="-1" strike="noStrike">
                <a:solidFill>
                  <a:srgbClr val="000000"/>
                </a:solidFill>
                <a:latin typeface="Tahoma"/>
              </a:rPr>
              <a:t>Δομή και μεταβολές της ύλη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εωλογία κ Γεωφυσική</a:t>
            </a:r>
            <a:r>
              <a:rPr b="0" lang="en-US" sz="2800" spc="-1" strike="noStrike">
                <a:solidFill>
                  <a:srgbClr val="000000"/>
                </a:solidFill>
                <a:latin typeface="Wingdings"/>
                <a:ea typeface="Wingdings"/>
              </a:rPr>
              <a:t></a:t>
            </a:r>
            <a:r>
              <a:rPr b="0" lang="en-US" sz="2800" spc="-1" strike="noStrike">
                <a:solidFill>
                  <a:srgbClr val="000000"/>
                </a:solidFill>
                <a:latin typeface="Tahoma"/>
              </a:rPr>
              <a:t> γεωπεριβάλλο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ιολογία κ  Γεωπονία</a:t>
            </a:r>
            <a:r>
              <a:rPr b="0" lang="en-US" sz="2800" spc="-1" strike="noStrike">
                <a:solidFill>
                  <a:srgbClr val="000000"/>
                </a:solidFill>
                <a:latin typeface="Wingdings"/>
                <a:ea typeface="Wingdings"/>
              </a:rPr>
              <a:t></a:t>
            </a:r>
            <a:r>
              <a:rPr b="0" lang="en-US" sz="2800" spc="-1" strike="noStrike">
                <a:solidFill>
                  <a:srgbClr val="000000"/>
                </a:solidFill>
                <a:latin typeface="Tahoma"/>
              </a:rPr>
              <a:t>χλωρίδα και πανίδα</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στρονομία</a:t>
            </a:r>
            <a:r>
              <a:rPr b="0" lang="en-US" sz="2800" spc="-1" strike="noStrike">
                <a:solidFill>
                  <a:srgbClr val="000000"/>
                </a:solidFill>
                <a:latin typeface="Wingdings"/>
                <a:ea typeface="Wingdings"/>
              </a:rPr>
              <a:t></a:t>
            </a:r>
            <a:r>
              <a:rPr b="0" lang="en-US" sz="2800" spc="-1" strike="noStrike">
                <a:solidFill>
                  <a:srgbClr val="000000"/>
                </a:solidFill>
                <a:latin typeface="Tahoma"/>
              </a:rPr>
              <a:t> πρόοδος ανθρώπου σε σχέση με το σύμπα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ία και φυσικές επιστήμες</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έχρι μέσα 20ου αι. η αρχαιολογία εθεωρείτο κλάδος των Τεχν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πό την εποχή του μεσοπολέμου κι έπειτα η Αρχαιολογία εισέρχεται αργά και σταθερά στο χώρο των Επιστημ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Άκρως απαραίτητη η επαφή του Αρχαιολόγου με τις θετικές επιστήμες =&gt; έλεγχος, συντονισμός, ερμηνεία όλων των αποτελεσμάτω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Νέα Αρχαιολογία</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960-197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wis Bin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υνδυασμός Αρχαιολογίας, Επιστήμών και Ανθρωπολογίας.</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άπτυξη μίας ή και περισσότερων απόψεων για τον προς έρευνα πολιτισμ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δειξη εγκυρότητας βάσει νέων μαρτυριώ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α ελληνικά δεδομένα</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όσφατη βελτίωση</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πανεπιστημιακά τμήματα θετικών επιστημών επικεντρώνονται σε κλάδους που αποφέρουν οικονομικό όφελο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πανεπιστημιακά τμήματα αρχαιολογικών σπουδών απέβλεπαν στη θεωρητική κατάρτιση των υποψηφίων Αρχαιολόγ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5:06:51Z</dcterms:created>
  <dc:creator> </dc:creator>
  <dc:description/>
  <dc:language>en-US</dc:language>
  <cp:lastModifiedBy> </cp:lastModifiedBy>
  <dcterms:modified xsi:type="dcterms:W3CDTF">2008-05-08T15:07:06Z</dcterms:modified>
  <cp:revision>1</cp:revision>
  <dc:subject/>
  <dc:title>ΑΡΧΑΙΟΛΟΓΙΑ ΚΑΙ ΘΕΤΙΚΕΣ ΕΠΙΣΤΗΜΕΣ</dc:title>
</cp:coreProperties>
</file>