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D94BF-B412-46FF-899C-78E3EC6122E8}"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l.wikipedia.org/w/index.php?title=&#923;&#953;&#959;&#973;&#953;&#962;_&#924;&#960;&#943;&#957;&#966;&#959;&#961;&#957;&#964;&amp;action=edit&amp;redlink=1" TargetMode="External"/><Relationship Id="rId2" Type="http://schemas.openxmlformats.org/officeDocument/2006/relationships/hyperlink" Target="http://el.wikipedia.org/w/index.php?title=&#916;&#953;&#945;&#948;&#953;&#954;&#945;&#963;&#964;&#953;&#954;&#942;_&#945;&#961;&#967;&#945;&#953;&#959;&#955;&#959;&#947;&#943;&#945;&amp;action=edit&amp;redlink=1" TargetMode="External"/><Relationship Id="rId3" Type="http://schemas.openxmlformats.org/officeDocument/2006/relationships/hyperlink" Target="http://el.wikipedia.org/w/index.php?title=&#913;&#954;&#961;&#953;&#946;&#949;&#943;&#962;_&#949;&#960;&#953;&#963;&#964;&#942;&#956;&#949;&#962;&amp;action=edit&amp;redlink=1" TargetMode="External"/><Relationship Id="rId4" Type="http://schemas.openxmlformats.org/officeDocument/2006/relationships/hyperlink" Target="http://el.wikipedia.org/w/index.php?title=&#933;&#960;&#972;&#952;&#949;&#963;&#951;&amp;action=edit&amp;redlink=1" TargetMode="External"/><Relationship Id="rId5" Type="http://schemas.openxmlformats.org/officeDocument/2006/relationships/slide" Target="../slides/slide4.xml"/><Relationship Id="rId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σφάλμα στους υπολογισμούς συμβαίνει με τέσσερις τρόπους</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παλοιφή δεκαδικών ψηφίων για χρήση πιο ακέραιου αριθμού</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Υπολογιστικά λάθη</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χρήση λανθασμένης μαθηματικής εξίσωσης</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Χρήση αριθμών που είναι γνωστοί κατά προσέγγιση</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ις φυσικές μετρήσιμες ποσότητες η έννοια της ακρίβειας είναι πιθανοκρατική και όχι απόλυτη.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ΡΟΣΟΧΗ, η εύκολη αναγωγή στη σχετικότητα χωρίς επεξήγηση δεν ωφελεί πρακτικά.</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Γι αυτό πρέπει πάντα να αναφέρεται το είδος του σφάλματος και να επιζητείται συνεχώς η μείωσή του , είτε με ακριβέστερες μετρήσεις είτε είτε συγκρίνοντας το αποτέλεσμα με άλλα αποτελέσματα από ακριβέστερα στοιχεία.</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ραγματική τιμή= η εκτιμώμενη ηλικί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έση τιμή= η πλησιέστερη στην εκτιμώμενη ηλικία τιμή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φάλμα= η διαφορά της πραγματικής και της μέσης τιμ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κτίμηση σφάλματος= πόσο κοντά είναι το αποτέλεσμα της μετρούμενης ηλικίας στην πραγματική ηλικί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κρίβεια= μέτρο βεβαιότητας για την ακρίβεια και συνέπεια του αποτελέσματο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σο το εύρος της καμπύλης μικραίνει τόσο πιο ακριβής είναι η μέτρηση</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ραγματεύονται τη φύση και τον άνθρωπο, μελετούν κυρίως τη δομή και τις μεταβολές της ύλη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Φυσική και Χημεία</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Μέσω της φυσικοχημικής σύστασης των υλικών μπορούν να μελετηθούν η προέλευση, η ιδιαιτερότητα, η ανθεκτικότητα κάποιων υλικ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Γεωλογία και η Γεωφυσική πραγματεύεται τη σύσταση, το σχηματισμό και τις μεταβολές του γεωπεριβάλλοντος, όπως τα είδη των πετρωμάτων, το υπέδαφος, το κλίμα και τις φυσικές καταστροφέ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Βιολογία και γεωπονία μελετούν τη χλωρίδα και την πανίδα ενός τόπου, μερικώς συμπεριλαμβάνεται και η ανασύσταση του παλαιοπεριβάλλοντο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ε την αστρονομία μελετώνται θρησκευτικές και λατρευτικές συνήθειες, ναυτιλιακά επιτεύγματα, που πιστοποιούν το βαθμό προόδου του ανθρώπου του απώτερου παρελθόντος σε σχέση με τη μελέτη των ουρανίων σωμάτων.</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μαγνητόμετρο επηρεάζεται από μεταλλικά αντικείμενα. Ενδεχομένως την ώρα της μέτρησης στην ύπαιθρο για τον εκτοπισμό θαμμένων αρχαιοτήτων να περάσει από εκεί κάποιο αυτοκίνητ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νεπαίσθητες μεταβολές της τάσης του ρεύματος μπορεί να επηρεάσουν τη συγκεκριμένη μέτρηση που γίνεται με ευαίσθητα ηλεκτρονικά όργαν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πρόσεκτες κινήσεις ερευνητών- συνεργατών κατά τη διάρκεια της Θερμοφωταύγει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Κοσμική ακτινοβολία τη στιγμή της μέτρησης με ακτίνες γάμμ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Κατά τη διαδικασία κονιορτοποίησης κεραμικού πιθανώς να εντοπιστούν ρινίσματα μετάλλου, από το μεταλλικό γουδοχέρ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Φυσικές συνθήκες του δείγματος θεωρούνται οι συνθήκες που κατά το δυνατό υπήρχαν στη διάρκεια ζωής του προς μέτρηση δείγματος.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ν ένα ξύλινο δείγμα βρεθεί σε έλος, τότε πολύ πιθανό να υπολογιστεί και ο </a:t>
            </a:r>
            <a:r>
              <a:rPr b="0" lang="en-US" sz="1200" spc="-1" strike="noStrike">
                <a:solidFill>
                  <a:srgbClr val="000000"/>
                </a:solidFill>
                <a:latin typeface="Times New Roman"/>
              </a:rPr>
              <a:t>C14</a:t>
            </a:r>
            <a:r>
              <a:rPr b="0" lang="el-GR" sz="1200" spc="-1" strike="noStrike">
                <a:solidFill>
                  <a:srgbClr val="000000"/>
                </a:solidFill>
                <a:latin typeface="Times New Roman"/>
              </a:rPr>
              <a:t> που περιέχει το νερό στο οποίο εντοπίστηκε το δείγμα, του οποίου τα άλατα περιέχουν </a:t>
            </a:r>
            <a:r>
              <a:rPr b="0" lang="en-US" sz="1200" spc="-1" strike="noStrike">
                <a:solidFill>
                  <a:srgbClr val="000000"/>
                </a:solidFill>
                <a:latin typeface="Times New Roman"/>
              </a:rPr>
              <a:t>C14.</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έχρι τις αρχές του 20ου αι. η Αρχαιολογία εθεωρείτο κλάδος των Τεχνών. Από τα μέσα του 20ου αι. και στο εξής η Αρχαιολογία διείσδυσε αργά και σταθερά στο χώρο του επιστημονικού πνεύματος, γεγονός που σηματοδοτεί τη χρήση των φυσικών επιστημών στην επίλυση αρχαιολογικών προβλημάτων, τα οποία είτε αντιμετώπιζε ο αρχαιολόγος είτε τροφοδοτούσε ο θετικός επιστήμ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αρχαιολόγος, με τα νέα δεδομένα, δεν πρέπει να χάσει την επαφή με το αντικείμενο, διότι, πάρά τα αποτελέσματα που του δίνει ο ειδικευμένος πλέον αρχαιομέτρης, είναι εκείνος που έχει τον τελευταίο λόγο, όλο τον έλεγχο και το συντονισμό στην ερμηνεία όλων των αποτελεσμάτων.</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λο το θέμα της εκπαίδευσης της Νέας Αρχαιολογίας αποδίδει ιδιαίτερο βάρος στον Αρχαιολόγο.  Πρέπει όμως να καθοριστεί σε τι ακριβώς πρέπει να επικεντρωθεί ο αρχαιολόγος και να καθοριστούν τα βασικά στοιχεία του νέου προγράμματος σπουδ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Νέα αρχαιολογί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δεκαετία 1960-1970 νέοι αμερικανοί αρχαιολόγοι όπως ο </a:t>
            </a:r>
            <a:r>
              <a:rPr b="0" lang="el-GR" sz="1200" spc="-1" strike="noStrike" u="sng">
                <a:solidFill>
                  <a:srgbClr val="ccccff"/>
                </a:solidFill>
                <a:uFillTx/>
                <a:latin typeface="Times New Roman"/>
                <a:hlinkClick r:id="rId1"/>
              </a:rPr>
              <a:t>Λιούις Μπίνφορντ</a:t>
            </a:r>
            <a:r>
              <a:rPr b="0" lang="el-GR" sz="1200" spc="-1" strike="noStrike">
                <a:solidFill>
                  <a:srgbClr val="000000"/>
                </a:solidFill>
                <a:latin typeface="Times New Roman"/>
              </a:rPr>
              <a:t> (Lewis Binford), αντέδρασαν στα </a:t>
            </a:r>
            <a:r>
              <a:rPr b="0" i="1" lang="el-GR" sz="1200" spc="-1" strike="noStrike">
                <a:solidFill>
                  <a:srgbClr val="000000"/>
                </a:solidFill>
                <a:latin typeface="Times New Roman"/>
              </a:rPr>
              <a:t>παραδείγματα</a:t>
            </a:r>
            <a:r>
              <a:rPr b="0" lang="el-GR" sz="1200" spc="-1" strike="noStrike">
                <a:solidFill>
                  <a:srgbClr val="000000"/>
                </a:solidFill>
                <a:latin typeface="Times New Roman"/>
              </a:rPr>
              <a:t> της πολιτισμικής ιστορικής αρχαιολογίας. Πρότειναν μια "Νέα άρχαιολογία", περισσότερο "επιστημονική" και "ανθρωπολογική". Είδαν τον πολιτισμό ως ένα σύνολο συμπεριφορικών διαδικασιών και παραδόσεων. Συν τω χρόνω τούτη η άποψη έφερε στο προσκήνιο τον όρο </a:t>
            </a:r>
            <a:r>
              <a:rPr b="0" lang="el-GR" sz="1200" spc="-1" strike="noStrike" u="sng">
                <a:solidFill>
                  <a:srgbClr val="ccccff"/>
                </a:solidFill>
                <a:uFillTx/>
                <a:latin typeface="Times New Roman"/>
                <a:hlinkClick r:id="rId2"/>
              </a:rPr>
              <a:t>διαδικαστική αρχαιολογία</a:t>
            </a:r>
            <a:r>
              <a:rPr b="0" lang="el-GR" sz="1200" spc="-1" strike="noStrike">
                <a:solidFill>
                  <a:srgbClr val="000000"/>
                </a:solidFill>
                <a:latin typeface="Times New Roman"/>
              </a:rPr>
              <a:t>. Οι υποστηρικτές της συγκεκριμένης θεωρίας δανείστηκαν από τις </a:t>
            </a:r>
            <a:r>
              <a:rPr b="0" lang="el-GR" sz="1200" spc="-1" strike="noStrike" u="sng">
                <a:solidFill>
                  <a:srgbClr val="ccccff"/>
                </a:solidFill>
                <a:uFillTx/>
                <a:latin typeface="Times New Roman"/>
                <a:hlinkClick r:id="rId3"/>
              </a:rPr>
              <a:t>ακριβείς επιστήμες</a:t>
            </a:r>
            <a:r>
              <a:rPr b="0" lang="el-GR" sz="1200" spc="-1" strike="noStrike">
                <a:solidFill>
                  <a:srgbClr val="000000"/>
                </a:solidFill>
                <a:latin typeface="Times New Roman"/>
              </a:rPr>
              <a:t> την ιδέα της εξέτασης και της δοκιμής της </a:t>
            </a:r>
            <a:r>
              <a:rPr b="0" lang="el-GR" sz="1200" spc="-1" strike="noStrike" u="sng">
                <a:solidFill>
                  <a:srgbClr val="ccccff"/>
                </a:solidFill>
                <a:uFillTx/>
                <a:latin typeface="Times New Roman"/>
                <a:hlinkClick r:id="rId4"/>
              </a:rPr>
              <a:t>υπόθεση</a:t>
            </a:r>
            <a:r>
              <a:rPr b="0" lang="el-GR" sz="1200" spc="-1" strike="noStrike">
                <a:solidFill>
                  <a:srgbClr val="000000"/>
                </a:solidFill>
                <a:latin typeface="Times New Roman"/>
              </a:rPr>
              <a:t>ς και της επιστημονικής μεθόδου. Πίστευαν ότι ο αρχαιολόγος θα έπρεπε να αναπτύξει μία ή περισσότερες υποθέσεις για τον πολιτισμό που διερευνά και να διεξάγει ανασκαφές με την πρόθεση να ελέγξει την εγκυρότητα των υποθέσεών του βάσει νέων μαρτυριών. Ένας επιπλέον λόγος για την ανάπτυξη της διαδικαστικής αρχαιολογίας ήταν η απογοήτευση των νέων αρχαιολόγων για το γεγονός ότι η μελέτη των πολιτισμών είχε υπερκεράσει τη μελέτη των ίδιων των ανθρώπων. Το ανθρωπολογικό παράδειγμα έδειχνε ότι η ανάπτυξη των </a:t>
            </a:r>
            <a:r>
              <a:rPr b="0" i="1" lang="el-GR" sz="1200" spc="-1" strike="noStrike">
                <a:solidFill>
                  <a:srgbClr val="5f9ea0"/>
                </a:solidFill>
                <a:latin typeface="Times New Roman"/>
              </a:rPr>
              <a:t>εθνικών</a:t>
            </a:r>
            <a:r>
              <a:rPr b="0" lang="el-GR" sz="1200" spc="-1" strike="noStrike">
                <a:solidFill>
                  <a:srgbClr val="000000"/>
                </a:solidFill>
                <a:latin typeface="Times New Roman"/>
              </a:rPr>
              <a:t> ομάδων δεν ήταν πάντα ανάλογη με το αρχαιολογικό αρχεί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0000"/>
                </a:solidFill>
                <a:latin typeface="Times New Roman"/>
              </a:rPr>
              <a:t>[</a:t>
            </a:r>
            <a:r>
              <a:rPr b="0" lang="el-GR" sz="1200" spc="-1" strike="noStrike">
                <a:solidFill>
                  <a:srgbClr val="ff0000"/>
                </a:solidFill>
                <a:latin typeface="Arial"/>
                <a:ea typeface="Arial"/>
              </a:rPr>
              <a:t>el.wikipedia.org/wiki/Αρχαιολογική_θεωρία</a:t>
            </a:r>
            <a:r>
              <a:rPr b="0" lang="el-GR" sz="1200" spc="-1" strike="noStrike">
                <a:solidFill>
                  <a:srgbClr val="ff0000"/>
                </a:solidFill>
                <a:latin typeface="Arial"/>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κατάσταση στην Ελλάδα συναντά βελτίωση τα τελευταία χρόνια. Μέχρι σήμερα τα Πανεπιστημιακά τμήματα θετικών επιστημών δεν προωθούσαν την ίδρυση αρχαιομετρικών εργαστηρίων. Επικεντρώνονταν σε κατευθύνσεις επιστημών που απέφεραν σημαντικά οικονομικά οφέλη και σε τεχνολογίες αιχμής. Από την άλλη πλευρά τα πανεπιστημιακά τμήματα αρχαιολογικής κατεύθυνσης έδιναν προτεραιότητα σε οδηγούς σπουδών που απέβλεπαν στην περαιτέρω θεωρητική κατάρτιση των υποψήφιων Αρχαιολόγ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ι επιστημονικές σπουδές μέσω της αρχαιομετρίας είναι πλέον ενσωματωμένες στην Αρχαιολογία και υπάρχει έντονα η ελπίδα ότι μέσα από τις πρώτες αυτές αρχές θα αναδυθεί μια ώριμη επιστήμη για τη μελέτη και ανασύσταση του ανθρώπινου παρελθόντο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ΣΦΆΛΜΑ ΣΤΙΣ ΑΡΧΑΙΟΜΕΤΡΙΚΕΣ ΜΕΤΡΗΣΕΙ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να παράγουμε έναν αριθμό σε μια μέτρηση πάνω σε ένα εύρημα είναι η μισή απάντηση για τη χρονολόγηση. Είναι βέβαια σημαντική η πρόληψη και η αποφυγή των σφαλμάτων, αλλά είναι και «αναγκαίο κακ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ζήτημα του σφάλματος βασίζεται σε δύο μαθηματικά αξιώματα, που αναφέρονται στις μετρήσει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κτίμηση του σφάλματος = πόσο κοντά είναι το σφάλμα στην πραγματική ηλικία του ευρήματο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κρίβεια = μέτρο βεβαιότητας για την ακρίβεια του αποτελέσματός μας, κατά πόσο είναι ακριβές το σφάλμ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ΡΟΣΟΧΗ, το σφάλμα πρέπει πάντα να υπάρχει, όταν μιλάμε για ακρίβεια δεν εννοούμε την ακρίβεια της μέτρησής μας, αλλά την ακρίβεια του σφάλματος.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άθε μέτρηση ενός φυσικού μεγέθους συνοδεύεται από ένα σφάλμ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υτό σημαίνει ότι δίνονται πιθανά περιθώρια ώστε η μέτρηση ενός φυσικού μεγέθους να είναι σωστ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χ. 2000 +/-200 χρόνια (95%), σημαίνει ότι κατά 95% η σωστή ηλικία είναι 1800 με 2200 χρόνι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σφάλμα στη βιβλιογραφία εντοπίζεται ως ποσοστό επί τοις εκατό (%) είτε με τη μορφή 1σ (=68,27%), 2σ (95,43%), 3σ (99,73%) κλπ.</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σφάλματα δηλώνουν την πιθανότητα η μετρούμενη  ή παρατηρούμενη ποσότητα να είναι πλησίον της πραγματικ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εισαγωγή των όρων αυτών ανάγεται στο 1733, στον Ντρεμουαβρ,  και ανεξάρτητα αναπτύχθηκε από τον Λαπλάς και τον Γκάους, γι αυτό και αναφέρεται ως Γκαουσιανός νόμος σφαλμάτων.</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EB62B-8BFD-4E30-8AE8-F06C35F3F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5B546-A1E4-4A0D-8C20-07ABA487E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A1007-5D92-4B77-9DAF-39AA6339A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4D4E5-AFD5-481C-B472-060893704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C6D4D-6DF7-4E13-8690-02E4A0A8C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7DDFE-A350-4F86-B1AD-F96B58C96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C111F-CCA2-45C4-A048-79BE700B2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2EE4E-9560-4AF2-8675-817E477A1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3A24C-3C47-4DC3-B3ED-37B78A400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2A120-E2CC-4EE1-9C6F-5BB8185A0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034F4-1942-44FA-8300-81C902CAC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4D6E6-E837-4F3E-A3B0-7C24300DB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0D82-0BD0-4D96-BE71-F4E6CA8969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ΡΧΑΙΟΛΟΓΙΑ ΚΑΙ ΘΕΤΙΚΕΣ ΕΠΙΣΤΗΜΕΣ</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Σχέση Χρονολόγησης και σφάλματος</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Σφάλμα</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gt;Τυχαίο και συστηματικό Σφάλμα</a:t>
            </a:r>
            <a:endParaRPr b="0" lang="en-US" sz="3200" spc="-1" strike="noStrike">
              <a:solidFill>
                <a:srgbClr val="000000"/>
              </a:solidFill>
              <a:latin typeface="Times New Roman"/>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Πρόκληση σφάλματος στους υπολογισμούς</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gn="ctr">
              <a:lnSpc>
                <a:spcPct val="10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Απαλοιφή δεκαδικών ψηφίων</a:t>
            </a:r>
            <a:endParaRPr b="0" lang="en-US" sz="3200" spc="-1" strike="noStrike">
              <a:solidFill>
                <a:srgbClr val="000000"/>
              </a:solidFill>
              <a:latin typeface="Times New Roman"/>
            </a:endParaRPr>
          </a:p>
          <a:p>
            <a:pPr marL="609480" indent="-609480" algn="ctr">
              <a:lnSpc>
                <a:spcPct val="10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Υπολογιστικά λάθη</a:t>
            </a:r>
            <a:endParaRPr b="0" lang="en-US" sz="3200" spc="-1" strike="noStrike">
              <a:solidFill>
                <a:srgbClr val="000000"/>
              </a:solidFill>
              <a:latin typeface="Times New Roman"/>
            </a:endParaRPr>
          </a:p>
          <a:p>
            <a:pPr marL="609480" indent="-609480" algn="ctr">
              <a:lnSpc>
                <a:spcPct val="10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Λάθος μαθηματική εξίσωση</a:t>
            </a:r>
            <a:endParaRPr b="0" lang="en-US" sz="3200" spc="-1" strike="noStrike">
              <a:solidFill>
                <a:srgbClr val="000000"/>
              </a:solidFill>
              <a:latin typeface="Times New Roman"/>
            </a:endParaRPr>
          </a:p>
          <a:p>
            <a:pPr marL="609480" indent="-609480" algn="ctr">
              <a:lnSpc>
                <a:spcPct val="10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Αριθμοί κατά προσέγγιση</a:t>
            </a:r>
            <a:endParaRPr b="0" lang="en-US" sz="3200" spc="-1" strike="noStrike">
              <a:solidFill>
                <a:srgbClr val="000000"/>
              </a:solidFill>
              <a:latin typeface="Times New Roman"/>
            </a:endParaRPr>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Έννοιες - κλειδιά</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Πραγματική τιμή</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Μέση τιμή</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Σφάλμα</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Εκτίμηση σφάλματος</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Ακρίβεια</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80520" y="952560"/>
            <a:ext cx="80010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Πραγματική τιμή στην αρχαιομετρία είναι η ηλικία του δείγματος. Δεν μπορεί να προσδιοριστεί με ακρίβεια, αλλά μπορεί να προσεγγιστεί, αν το σφάλμα μικρύνε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Η καλύτερη εκτίμηση της πραγματικής τιμής είναι η μέση τιμ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Υπάρχει άμεση εξάρτηση από την Γκαουσιανή καμπύλη.</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5181480"/>
            <a:ext cx="7772400" cy="914400"/>
          </a:xfrm>
          <a:prstGeom prst="rect">
            <a:avLst/>
          </a:prstGeom>
          <a:noFill/>
          <a:ln w="0">
            <a:noFill/>
          </a:ln>
        </p:spPr>
        <p:txBody>
          <a:bodyPr lIns="90000" rIns="90000" tIns="46800" bIns="46800" anchor="t">
            <a:normAutofit fontScale="99000"/>
          </a:bodyPr>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 http://hyperion.math.upatras.gr/courses/sts/thefoit/erg99/terizioti_etal/Image12.jpg</a:t>
            </a:r>
            <a:endParaRPr b="0" lang="en-US" sz="2000" spc="-1" strike="noStrike">
              <a:solidFill>
                <a:srgbClr val="000000"/>
              </a:solidFill>
              <a:latin typeface="Times New Roman"/>
            </a:endParaRPr>
          </a:p>
        </p:txBody>
      </p:sp>
      <p:pic>
        <p:nvPicPr>
          <p:cNvPr id="72" name="" descr=""/>
          <p:cNvPicPr/>
          <p:nvPr/>
        </p:nvPicPr>
        <p:blipFill>
          <a:blip r:embed="rId2"/>
          <a:stretch/>
        </p:blipFill>
        <p:spPr>
          <a:xfrm>
            <a:off x="961920" y="533520"/>
            <a:ext cx="7218360" cy="4568760"/>
          </a:xfrm>
          <a:prstGeom prst="rect">
            <a:avLst/>
          </a:prstGeom>
          <a:ln w="0">
            <a:noFill/>
          </a:ln>
        </p:spPr>
      </p:pic>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609480"/>
            <a:ext cx="7772400" cy="6019920"/>
          </a:xfrm>
          <a:prstGeom prst="rect">
            <a:avLst/>
          </a:prstGeom>
          <a:noFill/>
          <a:ln w="0">
            <a:noFill/>
          </a:ln>
        </p:spPr>
        <p:txBody>
          <a:bodyPr lIns="90000" rIns="90000" tIns="46800" bIns="46800" anchor="t">
            <a:normAutofit fontScale="92000"/>
          </a:bodyPr>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0000"/>
                </a:solidFill>
                <a:uFillTx/>
                <a:latin typeface="Tahoma"/>
              </a:rPr>
              <a:t>Παράδειγμα 1ο</a:t>
            </a:r>
            <a:endParaRPr b="0" lang="en-US" sz="3200" spc="-1" strike="noStrike">
              <a:solidFill>
                <a:srgbClr val="000000"/>
              </a:solidFill>
              <a:latin typeface="Times New Roman"/>
            </a:endParaRPr>
          </a:p>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Πρώτη εκτίμηση υπολογισμού σφάλματος. </a:t>
            </a:r>
            <a:endParaRPr b="0" lang="en-US" sz="3200" spc="-1" strike="noStrike">
              <a:solidFill>
                <a:srgbClr val="000000"/>
              </a:solidFill>
              <a:latin typeface="Times New Roman"/>
            </a:endParaRPr>
          </a:p>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Η πυραμίδα του Χέοπα χρονολογείται στο 2500 π.Χ. </a:t>
            </a:r>
            <a:endParaRPr b="0" lang="en-US" sz="3200" spc="-1" strike="noStrike">
              <a:solidFill>
                <a:srgbClr val="000000"/>
              </a:solidFill>
              <a:latin typeface="Times New Roman"/>
            </a:endParaRPr>
          </a:p>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Από χρονολόγηση λαξευμένου ογκόλιθου πήραμε ηλικία 2380π.Χ. </a:t>
            </a:r>
            <a:endParaRPr b="0" lang="en-US" sz="3200" spc="-1" strike="noStrike">
              <a:solidFill>
                <a:srgbClr val="000000"/>
              </a:solidFill>
              <a:latin typeface="Times New Roman"/>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a:t>
            </a:r>
            <a:r>
              <a:rPr b="0" lang="el-GR" sz="3200" spc="-1" strike="noStrike">
                <a:solidFill>
                  <a:srgbClr val="000000"/>
                </a:solidFill>
                <a:latin typeface="Tahoma"/>
              </a:rPr>
              <a:t>πομένως το σφάλμα εκτιμάται αρχικά στα</a:t>
            </a:r>
            <a:endParaRPr b="0" lang="en-US" sz="3200" spc="-1" strike="noStrike">
              <a:solidFill>
                <a:srgbClr val="000000"/>
              </a:solidFill>
              <a:latin typeface="Times New Roman"/>
            </a:endParaRPr>
          </a:p>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2500-2380=120 χρόνια</a:t>
            </a:r>
            <a:r>
              <a:rPr b="0" lang="en-US" sz="3200" spc="-1" strike="noStrike">
                <a:solidFill>
                  <a:srgbClr val="000000"/>
                </a:solidFill>
                <a:latin typeface="Tahoma"/>
              </a:rPr>
              <a:t>/ 4.9%</a:t>
            </a:r>
            <a:r>
              <a:rPr b="0" lang="el-GR" sz="3200" spc="-1" strike="noStrike">
                <a:solidFill>
                  <a:srgbClr val="000000"/>
                </a:solidFill>
                <a:latin typeface="Tahoma"/>
              </a:rPr>
              <a:t>.</a:t>
            </a:r>
            <a:endParaRPr b="0" lang="en-US" sz="3200" spc="-1" strike="noStrike">
              <a:solidFill>
                <a:srgbClr val="000000"/>
              </a:solidFill>
              <a:latin typeface="Times New Roman"/>
            </a:endParaRPr>
          </a:p>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Άρα η ηλικία της πυραμίδας είναι 2500±120</a:t>
            </a:r>
            <a:r>
              <a:rPr b="0" lang="en-US" sz="3200" spc="-1" strike="noStrike">
                <a:solidFill>
                  <a:srgbClr val="000000"/>
                </a:solidFill>
                <a:latin typeface="Tahoma"/>
              </a:rPr>
              <a:t>/ 4.9%</a:t>
            </a:r>
            <a:endParaRPr b="0" lang="en-US" sz="3200" spc="-1" strike="noStrike">
              <a:solidFill>
                <a:srgbClr val="000000"/>
              </a:solidFill>
              <a:latin typeface="Times New Roman"/>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380880"/>
            <a:ext cx="7772400" cy="647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0000"/>
                </a:solidFill>
                <a:uFillTx/>
                <a:latin typeface="Times New Roman"/>
              </a:rPr>
              <a:t>2ο παράδειγμα.</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Έστω ότι το εύρημα είναι </a:t>
            </a:r>
            <a:r>
              <a:rPr b="1" lang="el-GR" sz="3200" spc="-1" strike="noStrike">
                <a:solidFill>
                  <a:srgbClr val="000000"/>
                </a:solidFill>
                <a:latin typeface="Times New Roman"/>
              </a:rPr>
              <a:t>2380±30</a:t>
            </a:r>
            <a:r>
              <a:rPr b="1" lang="en-US" sz="3200" spc="-1" strike="noStrike">
                <a:solidFill>
                  <a:srgbClr val="000000"/>
                </a:solidFill>
                <a:latin typeface="Times New Roman"/>
              </a:rPr>
              <a:t>/ 1.25%</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 ηλικία υπολογίζεται από </a:t>
            </a:r>
            <a:r>
              <a:rPr b="1" lang="el-GR" sz="3200" spc="-1" strike="noStrike">
                <a:solidFill>
                  <a:srgbClr val="000000"/>
                </a:solidFill>
                <a:latin typeface="Times New Roman"/>
              </a:rPr>
              <a:t>2350</a:t>
            </a:r>
            <a:r>
              <a:rPr b="0" lang="el-GR" sz="3200" spc="-1" strike="noStrike">
                <a:solidFill>
                  <a:srgbClr val="000000"/>
                </a:solidFill>
                <a:latin typeface="Times New Roman"/>
              </a:rPr>
              <a:t> έως </a:t>
            </a:r>
            <a:r>
              <a:rPr b="1" lang="el-GR" sz="3200" spc="-1" strike="noStrike">
                <a:solidFill>
                  <a:srgbClr val="000000"/>
                </a:solidFill>
                <a:latin typeface="Times New Roman"/>
              </a:rPr>
              <a:t>2410</a:t>
            </a:r>
            <a:r>
              <a:rPr b="0" lang="el-GR"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ν μια δεύτερη μέτρηση δώσει ηλικία </a:t>
            </a:r>
            <a:r>
              <a:rPr b="1" lang="el-GR" sz="3200" spc="-1" strike="noStrike">
                <a:solidFill>
                  <a:srgbClr val="000000"/>
                </a:solidFill>
                <a:latin typeface="Times New Roman"/>
              </a:rPr>
              <a:t>2410</a:t>
            </a:r>
            <a:r>
              <a:rPr b="0" lang="el-GR" sz="3200" spc="-1" strike="noStrike">
                <a:solidFill>
                  <a:srgbClr val="000000"/>
                </a:solidFill>
                <a:latin typeface="Times New Roman"/>
              </a:rPr>
              <a:t>, αλλάζει μεν η εκτίμηση, αλλά όχι η ακρίβεια, διότι βρισκόμαστε εντός των ορίων που καθορίζονται από το δείγμα.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ν μια άλλη μέτρηση δώσει ηλικία </a:t>
            </a:r>
            <a:r>
              <a:rPr b="1" lang="el-GR" sz="3200" spc="-1" strike="noStrike">
                <a:solidFill>
                  <a:srgbClr val="000000"/>
                </a:solidFill>
                <a:latin typeface="Times New Roman"/>
              </a:rPr>
              <a:t>2340</a:t>
            </a:r>
            <a:r>
              <a:rPr b="0" lang="el-GR" sz="3200" spc="-1" strike="noStrike">
                <a:solidFill>
                  <a:srgbClr val="000000"/>
                </a:solidFill>
                <a:latin typeface="Times New Roman"/>
              </a:rPr>
              <a:t>, τότε μεταβάλλεται και η ακρίβεια  και η εκτίμηση, διότι ο αριθμός </a:t>
            </a:r>
            <a:r>
              <a:rPr b="1" lang="el-GR" sz="3200" spc="-1" strike="noStrike">
                <a:solidFill>
                  <a:srgbClr val="000000"/>
                </a:solidFill>
                <a:latin typeface="Times New Roman"/>
              </a:rPr>
              <a:t>2340</a:t>
            </a:r>
            <a:r>
              <a:rPr b="0" lang="el-GR" sz="3200" spc="-1" strike="noStrike">
                <a:solidFill>
                  <a:srgbClr val="000000"/>
                </a:solidFill>
                <a:latin typeface="Times New Roman"/>
              </a:rPr>
              <a:t> είναι εκτός των ορίων που ορίζει το σφάλμα.</a:t>
            </a:r>
            <a:endParaRPr b="0" lang="en-US" sz="3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304560"/>
            <a:ext cx="7772400" cy="6553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Στη Γκαουσιανή καμπύλη το εύρος της κατανομής όλων των αποτελεσμάτων των ηλικιών είναι ένα μέτρο ακρίβειας των μετρήσεω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Η απόσταση της μέσης κατανομής  από την πραγματική τιμή είναι μέτρο του εκτιμώμενου σφάλματος των ηλικιών</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Μικρό εύρος καμπύλης</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μεγαλύτερη ακρίβεια</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6" name="" descr=""/>
          <p:cNvPicPr/>
          <p:nvPr/>
        </p:nvPicPr>
        <p:blipFill>
          <a:blip r:embed="rId2"/>
          <a:stretch/>
        </p:blipFill>
        <p:spPr>
          <a:xfrm>
            <a:off x="1967040" y="3048120"/>
            <a:ext cx="5209920" cy="2784240"/>
          </a:xfrm>
          <a:prstGeom prst="rect">
            <a:avLst/>
          </a:prstGeom>
          <a:ln w="0">
            <a:noFill/>
          </a:ln>
        </p:spPr>
      </p:pic>
    </p:spTree>
  </p:cSld>
  <p:transition>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42720" y="0"/>
            <a:ext cx="8458200" cy="68580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Μέση τιμή</a:t>
            </a:r>
            <a:r>
              <a:rPr b="0" lang="en-US" sz="2600" spc="-1" strike="noStrike">
                <a:solidFill>
                  <a:srgbClr val="000000"/>
                </a:solidFill>
                <a:latin typeface="Wingdings"/>
                <a:ea typeface="Wingdings"/>
              </a:rPr>
              <a:t></a:t>
            </a:r>
            <a:r>
              <a:rPr b="0" lang="en-US" sz="2600" spc="-1" strike="noStrike">
                <a:solidFill>
                  <a:srgbClr val="000000"/>
                </a:solidFill>
                <a:latin typeface="Tahoma"/>
              </a:rPr>
              <a:t> μέσος όρος των τιμών που παίρνουμε από τη μέτρηση. Αν έχω τέσσερις μετρήσεις ηλικίας, το άθροισμα π[ρέπει να διαιρείται ισότιμα σε ακέραιο αριθμό.</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Διάμεση τιμή</a:t>
            </a:r>
            <a:r>
              <a:rPr b="0" lang="en-US" sz="2600" spc="-1" strike="noStrike">
                <a:solidFill>
                  <a:srgbClr val="000000"/>
                </a:solidFill>
                <a:latin typeface="Wingdings"/>
                <a:ea typeface="Wingdings"/>
              </a:rPr>
              <a:t></a:t>
            </a:r>
            <a:r>
              <a:rPr b="0" lang="en-US" sz="2600" spc="-1" strike="noStrike">
                <a:solidFill>
                  <a:srgbClr val="000000"/>
                </a:solidFill>
                <a:latin typeface="Tahoma"/>
              </a:rPr>
              <a:t> ομοιότητα με τη μέση τιμή. Στην κατανομή των ηλικιών πρέπει τα μισά δεδομένα να τοποθετούνται πάνω από την τιμή αυτή και τα μισά κάτω από αυτή.</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Μέση απόκλιση</a:t>
            </a:r>
            <a:r>
              <a:rPr b="0" lang="en-US" sz="2600" spc="-1" strike="noStrike">
                <a:solidFill>
                  <a:srgbClr val="000000"/>
                </a:solidFill>
                <a:latin typeface="Wingdings"/>
                <a:ea typeface="Wingdings"/>
              </a:rPr>
              <a:t></a:t>
            </a:r>
            <a:r>
              <a:rPr b="0" lang="en-US" sz="2600" spc="-1" strike="noStrike">
                <a:solidFill>
                  <a:srgbClr val="000000"/>
                </a:solidFill>
                <a:latin typeface="Tahoma"/>
              </a:rPr>
              <a:t> η απόκλιση που έχουν οι τιμές μετρήσεων από την κεντρική ηλικία</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Σταθερή και τυπική απόκλιση</a:t>
            </a:r>
            <a:r>
              <a:rPr b="0" lang="en-US" sz="2600" spc="-1" strike="noStrike">
                <a:solidFill>
                  <a:srgbClr val="000000"/>
                </a:solidFill>
                <a:latin typeface="Wingdings"/>
                <a:ea typeface="Wingdings"/>
              </a:rPr>
              <a:t></a:t>
            </a:r>
            <a:r>
              <a:rPr b="0" lang="en-US" sz="2600" spc="-1" strike="noStrike">
                <a:solidFill>
                  <a:srgbClr val="000000"/>
                </a:solidFill>
                <a:latin typeface="Tahoma"/>
              </a:rPr>
              <a:t> μέτρο διασποράς των δεδομένων</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πιθανότητα</a:t>
            </a:r>
            <a:r>
              <a:rPr b="0" lang="en-US" sz="2600" spc="-1" strike="noStrike">
                <a:solidFill>
                  <a:srgbClr val="000000"/>
                </a:solidFill>
                <a:latin typeface="Wingdings"/>
                <a:ea typeface="Wingdings"/>
              </a:rPr>
              <a:t></a:t>
            </a:r>
            <a:r>
              <a:rPr b="0" lang="en-US" sz="2600" spc="-1" strike="noStrike">
                <a:solidFill>
                  <a:srgbClr val="000000"/>
                </a:solidFill>
                <a:latin typeface="Tahoma"/>
              </a:rPr>
              <a:t> Έστω ότι έχω ένα γεγονός Γ. Η επανάληψη των μετρήσεων γίνεται ν φορές και δίνει ρ συμπεράσματα. Ο λόγος του αριθμού των συμπερασμάτων προς τον αριθμό των μετρήσεων δίνει την πιθανότητα να συμβεί το γεγονός.</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6324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Κατανομή δεδομένων</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λαμβάνουμε πολλά δεδομένα και σχεδιάζουμε καμπύλη με τα δεδομένα. Τα δεδομένα τοποθετούνται γύρω από μια τιμή Α που είναι πραγματική τιμή και κορυφή της καμπύλης.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ο 1σ=68,3%. Αυτό σημαίνει ότι το 68,3% των σημείων θα είναι μεταξύ Α-1σ και Α+1σ</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9" name="" descr=""/>
          <p:cNvPicPr/>
          <p:nvPr/>
        </p:nvPicPr>
        <p:blipFill>
          <a:blip r:embed="rId2"/>
          <a:stretch/>
        </p:blipFill>
        <p:spPr>
          <a:xfrm>
            <a:off x="2097000" y="2286000"/>
            <a:ext cx="4948200" cy="3132000"/>
          </a:xfrm>
          <a:prstGeom prst="rect">
            <a:avLst/>
          </a:prstGeom>
          <a:ln w="0">
            <a:noFill/>
          </a:ln>
        </p:spPr>
      </p:pic>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160" y="609120"/>
            <a:ext cx="7924680" cy="525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Μπορεί να αλλάξει το σφάλμα κατά τις μετρήσεις, αλλά η ακρίβεια δεν αλλάζει.</a:t>
            </a:r>
            <a:br>
              <a:rPr sz="4400"/>
            </a:br>
            <a:endParaRPr b="0" lang="en-US" sz="4400" spc="-1" strike="noStrike">
              <a:solidFill>
                <a:srgbClr val="000000"/>
              </a:solidFill>
              <a:latin typeface="Times New Roman"/>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Φυσικές Επιστήμες</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Πραγματεύονται τη φύση και τον ανθρώπινο οργανισμό</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Φυσική κ Χημεία</a:t>
            </a:r>
            <a:r>
              <a:rPr b="0" lang="en-US" sz="2800" spc="-1" strike="noStrike">
                <a:solidFill>
                  <a:srgbClr val="000000"/>
                </a:solidFill>
                <a:latin typeface="Wingdings"/>
                <a:ea typeface="Wingdings"/>
              </a:rPr>
              <a:t></a:t>
            </a:r>
            <a:r>
              <a:rPr b="0" lang="en-US" sz="2800" spc="-1" strike="noStrike">
                <a:solidFill>
                  <a:srgbClr val="000000"/>
                </a:solidFill>
                <a:latin typeface="Tahoma"/>
              </a:rPr>
              <a:t>Δομή και μεταβολές της ύλης</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Γεωλογία κ Γεωφυσική</a:t>
            </a:r>
            <a:r>
              <a:rPr b="0" lang="en-US" sz="2800" spc="-1" strike="noStrike">
                <a:solidFill>
                  <a:srgbClr val="000000"/>
                </a:solidFill>
                <a:latin typeface="Wingdings"/>
                <a:ea typeface="Wingdings"/>
              </a:rPr>
              <a:t></a:t>
            </a:r>
            <a:r>
              <a:rPr b="0" lang="en-US" sz="2800" spc="-1" strike="noStrike">
                <a:solidFill>
                  <a:srgbClr val="000000"/>
                </a:solidFill>
                <a:latin typeface="Tahoma"/>
              </a:rPr>
              <a:t> γεωπεριβάλλον</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Βιολογία κ  Γεωπονία</a:t>
            </a:r>
            <a:r>
              <a:rPr b="0" lang="en-US" sz="2800" spc="-1" strike="noStrike">
                <a:solidFill>
                  <a:srgbClr val="000000"/>
                </a:solidFill>
                <a:latin typeface="Wingdings"/>
                <a:ea typeface="Wingdings"/>
              </a:rPr>
              <a:t></a:t>
            </a:r>
            <a:r>
              <a:rPr b="0" lang="en-US" sz="2800" spc="-1" strike="noStrike">
                <a:solidFill>
                  <a:srgbClr val="000000"/>
                </a:solidFill>
                <a:latin typeface="Tahoma"/>
              </a:rPr>
              <a:t>χλωρίδα και πανίδα</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Αστρονομία</a:t>
            </a:r>
            <a:r>
              <a:rPr b="0" lang="en-US" sz="2800" spc="-1" strike="noStrike">
                <a:solidFill>
                  <a:srgbClr val="000000"/>
                </a:solidFill>
                <a:latin typeface="Wingdings"/>
                <a:ea typeface="Wingdings"/>
              </a:rPr>
              <a:t></a:t>
            </a:r>
            <a:r>
              <a:rPr b="0" lang="en-US" sz="2800" spc="-1" strike="noStrike">
                <a:solidFill>
                  <a:srgbClr val="000000"/>
                </a:solidFill>
                <a:latin typeface="Tahoma"/>
              </a:rPr>
              <a:t> πρόοδος ανθρώπου σε σχέση με το σύμπαν.</a:t>
            </a:r>
            <a:endParaRPr b="0" lang="en-US" sz="2800" spc="-1" strike="noStrike">
              <a:solidFill>
                <a:srgbClr val="000000"/>
              </a:solidFill>
              <a:latin typeface="Times New Roman"/>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Τυχαίο Σφάλμα</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Παρουσιάζονται κατά τη μέτρηση από καθαρά τυχαίους παράγοντες (π.χ. μεταλλικά αντικείμενα, παροχή ηλεκτροδότησης, λάθος κινήσεις ερευνητών, κοσμική ακτινοβολία, δειγματοληψία ή αναπόφευκτα στοιχεία στην προετοιμασία του δείγματος)</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Η αποφυγή</a:t>
            </a:r>
            <a:r>
              <a:rPr b="0" lang="en-US" sz="2800" spc="-1" strike="noStrike">
                <a:solidFill>
                  <a:srgbClr val="000000"/>
                </a:solidFill>
                <a:latin typeface="Wingdings"/>
                <a:ea typeface="Wingdings"/>
              </a:rPr>
              <a:t></a:t>
            </a:r>
            <a:r>
              <a:rPr b="0" lang="en-US" sz="2800" spc="-1" strike="noStrike">
                <a:solidFill>
                  <a:srgbClr val="000000"/>
                </a:solidFill>
                <a:latin typeface="Tahoma"/>
              </a:rPr>
              <a:t>μέτρηση σε όσο το δυνατόν πιο φυσικές συνθήκες για το δείγμα και επαναλήψεις μετρήσεων.</a:t>
            </a:r>
            <a:endParaRPr b="0" lang="en-US" sz="2800" spc="-1" strike="noStrike">
              <a:solidFill>
                <a:srgbClr val="000000"/>
              </a:solidFill>
              <a:latin typeface="Times New Roman"/>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Συστηματικά σφάλματα</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Εξαρτώνται από το περιβάλλον ανεύρεσης τους.</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Εξαρτώνται από τη διαδικασία προετοιμασίας του δείγματος</a:t>
            </a:r>
            <a:endParaRPr b="0" lang="en-US" sz="3200" spc="-1" strike="noStrike">
              <a:solidFill>
                <a:srgbClr val="000000"/>
              </a:solidFill>
              <a:latin typeface="Times New Roman"/>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ρχαιολογία και φυσικές επιστήμες</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Μέχρι μέσα 20ου αι. η αρχαιολογία εθεωρείτο κλάδος των Τεχνών.</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Από την εποχή του μεσοπολέμου κι έπειτα η Αρχαιολογία εισέρχεται αργά και σταθερά στο χώρο των Επιστημών</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Άκρως απαραίτητη η επαφή του Αρχαιολόγου με τις θετικές επιστήμες =&gt; έλεγχος, συντονισμός, ερμηνεία όλων των αποτελεσμάτων </a:t>
            </a:r>
            <a:endParaRPr b="0" lang="en-US" sz="2800" spc="-1" strike="noStrike">
              <a:solidFill>
                <a:srgbClr val="000000"/>
              </a:solidFill>
              <a:latin typeface="Times New Roman"/>
            </a:endParaRPr>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Νέα Αρχαιολογία</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1960-197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wis Binfor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Συνδυασμός Αρχαιολογίας, Επιστήμών και Ανθρωπολογίας.</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νάπτυξη μίας ή και περισσότερων απόψεων για τον προς έρευνα πολιτισμό.</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πόδειξη εγκυρότητας βάσει νέων μαρτυριών. </a:t>
            </a:r>
            <a:endParaRPr b="0" lang="en-US" sz="2800" spc="-1" strike="noStrike">
              <a:solidFill>
                <a:srgbClr val="000000"/>
              </a:solidFill>
              <a:latin typeface="Times New Roman"/>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Τα ελληνικά δεδομένα</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Πρόσφατη βελτίωση</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Τα πανεπιστημιακά τμήματα θετικών επιστημών επικεντρώνονται σε κλάδους που αποφέρουν οικονομικό όφελος</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Τα πανεπιστημιακά τμήματα αρχαιολογικών σπουδών απέβλεπαν στη θεωρητική κατάρτιση των υποψηφίων Αρχαιολόγων.</a:t>
            </a:r>
            <a:endParaRPr b="0" lang="en-US" sz="3200" spc="-1" strike="noStrike">
              <a:solidFill>
                <a:srgbClr val="000000"/>
              </a:solidFill>
              <a:latin typeface="Times New Roman"/>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ΣΦΑΛΜΑ</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Ένας μόνο αριθμός που αναφέρεται στη χρονολόγηση ενός ευρήματος είναι μισή απάντηση στο θέμα της χρονολόγησης. Η άλλη μισή απάντηση είναι το σφάλμα.</a:t>
            </a:r>
            <a:endParaRPr b="0" lang="en-US" sz="3200" spc="-1" strike="noStrike">
              <a:solidFill>
                <a:srgbClr val="000000"/>
              </a:solidFill>
              <a:latin typeface="Times New Roman"/>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Μαθηματικά αξιώματα</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Αξίωμα 1ο</a:t>
            </a:r>
            <a:r>
              <a:rPr b="0" lang="en-US" sz="2800" spc="-1" strike="noStrike">
                <a:solidFill>
                  <a:srgbClr val="000000"/>
                </a:solidFill>
                <a:latin typeface="Tahoma"/>
              </a:rPr>
              <a:t>: καμία μέτρηση δεν παράγει κανένα αποτέλεσμα αν δε συνοδεύεται από ένα σφάλμα</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Αξίωμα 2ο</a:t>
            </a:r>
            <a:r>
              <a:rPr b="0" lang="en-US" sz="2800" spc="-1" strike="noStrike">
                <a:solidFill>
                  <a:srgbClr val="000000"/>
                </a:solidFill>
                <a:latin typeface="Tahoma"/>
              </a:rPr>
              <a:t>: το αποτέλεσμα κάθε μέτρησης είναι άχρηστο, εκτός κι αν συνοδεύεται με το αντίστοιχο σφάλμα</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Λυριτζής ι., 2007, </a:t>
            </a:r>
            <a:r>
              <a:rPr b="0" i="1" lang="en-US" sz="2000" spc="-1" strike="noStrike">
                <a:solidFill>
                  <a:srgbClr val="000000"/>
                </a:solidFill>
                <a:latin typeface="Tahoma"/>
              </a:rPr>
              <a:t>Φυσικές Επιστήμες στην Αρχαιολογία, </a:t>
            </a:r>
            <a:r>
              <a:rPr b="0" lang="en-US" sz="2000" spc="-1" strike="noStrike">
                <a:solidFill>
                  <a:srgbClr val="000000"/>
                </a:solidFill>
                <a:latin typeface="Tahoma"/>
              </a:rPr>
              <a:t>Εκδόσεις Δάρδανος Τυπωθήτω, Αθήνα, σ.σ. 56</a:t>
            </a:r>
            <a:endParaRPr b="0" lang="en-US" sz="2000" spc="-1" strike="noStrike">
              <a:solidFill>
                <a:srgbClr val="000000"/>
              </a:solidFill>
              <a:latin typeface="Times New Roman"/>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Βασικές έννοιες</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Εκτίμηση του σφάλματος</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ακρίβεια</a:t>
            </a:r>
            <a:endParaRPr b="0" lang="en-US" sz="3200" spc="-1" strike="noStrike">
              <a:solidFill>
                <a:srgbClr val="000000"/>
              </a:solidFill>
              <a:latin typeface="Times New Roman"/>
            </a:endParaRPr>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σφάλμα</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Κάθε μέτρηση φυσικού μεγέθους συνοδεύεται από ένα σφάλμα</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Εμφάνιση ως ποσοστό % ή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1σ (=68,27%), 2σ (95,43%), 3σ (99,73%)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Γκαουσιανός νόμος σφαλμάτων</a:t>
            </a:r>
            <a:endParaRPr b="0" lang="en-US" sz="3200" spc="-1" strike="noStrike">
              <a:solidFill>
                <a:srgbClr val="000000"/>
              </a:solidFill>
              <a:latin typeface="Times New Roman"/>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15:06:51Z</dcterms:created>
  <dc:creator> </dc:creator>
  <dc:description/>
  <dc:language>en-US</dc:language>
  <cp:lastModifiedBy> </cp:lastModifiedBy>
  <dcterms:modified xsi:type="dcterms:W3CDTF">2008-06-10T10:18:48Z</dcterms:modified>
  <cp:revision>11</cp:revision>
  <dc:subject/>
  <dc:title>ΑΡΧΑΙΟΛΟΓΙΑ ΚΑΙ ΘΕΤΙΚΕΣ ΕΠΙΣΤΗΜΕΣ</dc:title>
</cp:coreProperties>
</file>