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7BB31-6360-4AAA-8A56-4A28A43AF699}"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Χρειάζεται ιδιαίτερη προσοχή στα μεταλλικά αντικείμενα. Οι α-Χ έχουν διεισδυτικότητα της τάξεως των 20-200μ</a:t>
            </a:r>
            <a:r>
              <a:rPr b="0" lang="en-US" sz="1200" spc="-1" strike="noStrike">
                <a:solidFill>
                  <a:srgbClr val="000000"/>
                </a:solidFill>
                <a:latin typeface="Arial"/>
              </a:rPr>
              <a:t>m </a:t>
            </a:r>
            <a:r>
              <a:rPr b="0" lang="el-GR" sz="1200" spc="-1" strike="noStrike">
                <a:solidFill>
                  <a:srgbClr val="000000"/>
                </a:solidFill>
                <a:latin typeface="Arial"/>
              </a:rPr>
              <a:t>στην επιφάνεια του αντικειμένου, γι αυτό πρέπει να υπάρχει ιδιαίτερη προσοχή στις διαβρωμένες επιφάνειες των μεταλλικών δειγμάτων.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άθε χημικό στοιχεί στην παραπάνω διαδικασία εκπέμπει ακτίνες Χ σε αρκετά χαρακτηριστικά και διακριτά λ, που εξαρτώνται από τον ατομικό τους αριθμό Ζ και δίνονται, για τις ισχυρότερες ακτίνες Κ κ </a:t>
            </a:r>
            <a:r>
              <a:rPr b="0" lang="en-US" sz="1200" spc="-1" strike="noStrike">
                <a:solidFill>
                  <a:srgbClr val="000000"/>
                </a:solidFill>
                <a:latin typeface="Arial"/>
              </a:rPr>
              <a:t>L, </a:t>
            </a:r>
            <a:r>
              <a:rPr b="0" lang="el-GR" sz="1200" spc="-1" strike="noStrike">
                <a:solidFill>
                  <a:srgbClr val="000000"/>
                </a:solidFill>
                <a:latin typeface="Arial"/>
              </a:rPr>
              <a:t> από τις σχέσεις αυτές.</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Η πρωτογενής α-Χ, διαμέτρου μικρότερης από 1 χιλιοστό, λαμβάνεται από γεννήτρια α-Χ ή από ραδιοϊσότοπα όπως Αμερίκιο, κοβάλτιο, τρίτιο, κάδμιο, σίδηρο. Με περιθλασιόμετρο διαχωρίζονται οι δευτερογενείς ακτίνες στα επιμέρους λ και ανιχνεύονται είτε με σπινθηριστή είτε με αναλογικό ανιχνευτή.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Τα ραδιοϊσότοπα διεγείρουν τα άτομα των στοιχεί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Τα άτομα αποβάλλουν ηλεκτρόνι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Η κενή θέση συμπληρώνεται από άλλα ηλεκτρόνια κι εκπέμπεται ακτινοβολία φθορισμού ή δευτερογενείς α-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Η ένταση της εκπεμπόμενης ακτινοβολίας (είναι χαρακτηριστική για τα άτομα κάθε στοιχείου) αναλύετα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Από την ανάλυση βρίσκεται το ποσοστό κάθε στοιχείου στο δείγμα.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ταρχάς γίνεται βομβαρδισμός με βραδέα ή θερμικά νετρόνι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κολουθεί αλληλεπίδραση των νετρονίων με τους πυρήνες των ατόμων των στοιχείων του δείγματος και γίνεται μετατροπή τους σε ασταθή ραδιενεργά ισότοπα. Τα ραδιενεργά αυτά ισότοπα διασπώνται και σχηματίζουν σταθερά ισότοπα με χρόνο ημιζωής εξαρτώμενο από κάθε ισότοπο, και που μπορεί να διαρκέσει από λίγα δευτερόλεπτα έως χιλιάδες χρόνι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τη διάσπαση εκπέμπεται γ ακτινοβολία ενεργειών από 0,1 έως 2</a:t>
            </a:r>
            <a:r>
              <a:rPr b="0" lang="en-US" sz="1200" spc="-1" strike="noStrike">
                <a:solidFill>
                  <a:srgbClr val="000000"/>
                </a:solidFill>
                <a:latin typeface="Arial"/>
              </a:rPr>
              <a:t>MeV</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εκπεμπόμενες γ ακτίνες έχουν συγκεκριμένες ενέργειες που είναι χαρακτηριστικές του αντίστοιχου στοιχείου που διεγείρεται με βραδέα νετρόνια.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Χρησιμοποιείται στη μελέτη λεπτών τομών , με τη βοήθεια διερχόμενου φωτό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Η τράπεζα έχει κυκλικό σχήμα και μπορεί να περιστραφεί πλήρως. Στο κέντρο της βάσης υπάρχει μια οπή από την οποία διέρχεται φώς μέσω των δειγμάτων και κατά μήκος του οπτικού συστήματος. Τροχοί εστίασης μετακινούν την τράπεζα, ώστε να πλησιάζει ή να απομακρύνεται από το φακ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Κάτω από την επιφάνεια παρατήρησης υπάρχει μια δευτερεύουσα επιφάνεια, η οποία είναι ένα κυλινδρικό μεταλλικό στέγασμα μέσα στο οποίο υπάρχει συγκεντρωτικός φακός, που εξασφαλίζει την ισομερή διάχυση φωτός στα δείγματα, ένα διάφραγμα που ελέγχει την ένταση του διερχόμενου φωτός κι ένας πολωτής από πολαροειδές φύλλο, το οποίο μετακινείται μαζί με την τράπεζ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Οι προσοφθάλμιοι φακοί και οι αντικειμενικοί φακοί είναι συστήματα 2 ή και περισσότερων φακών για την καλύτερη όραση και την καλύτερη συγκέντρωση του φωτό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Ο αναλυτής είναι ένα φύλλο διπλοθλαστικού υλικού στηριγμένο σε μεταλλικό στέγασμα που μπορεί κατά βούληση να πιέζεται μέσα κι έξω στο οπτικό σύστημα. Αυτό είναι ιδιαίτερα χρήσιμο στις πετρολογικές παρατηρήσεις.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Η ΦΟΕ στηρίζεται στο φυσικό φαινόμενο της διέγερσης των εξωτερικών ηλεκτρονίων των ατόμων στο υπό ανάλυση δείγμα. Η απελευθερωμένη ενέργεια κατά την επιστροφή των ηλεκτρονίων στην αρχική τους θέση, στη ζώνη σθένους, εμφανίζεται σαν ορατό φώς ή πλησίον της υπεριώδους ακτινοβολίας.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Λεία επιφάνεια τομής από το υλικό εξετάζεται σε ανακλώμενο φώς. Αποκοπή ιδανικά μικρής φέτας , η οποία στιλβώνεται σε επίπεδη και λεία επιφάνεια και χαράσσεται με οξύ για να αποκαλυφθεί η εσωτερική δομή.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Αποκαλύπτεται η εσωτερική δομή του μετάλλου που δίνει πληροφορίες για θερμικές και μηχανικές διαδικασίες τις οποίες υπέστη το μέταλλο. Δε δίνει δεδομένα σύσταση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Οι λεπτομέρειες της εσωτερικής δομής αναγνωρίζονται σαν κοντράστ στη φωτεινότητα και τη λαμπρότητα.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ηλεκτρονικό μικροσκόπιο σάρωσης δέσμη ηλεκτρονίων υψηλής ενέργειας διέρχεται μέσα από ακολουθία μαγνητικών φακών που σμικρύνουν τη διάμετρο της δέσμης, ώστε η ακτινοβολούμενη επιφάνεια να είναι στα 2,5 </a:t>
            </a:r>
            <a:r>
              <a:rPr b="0" lang="en-US" sz="1200" spc="-1" strike="noStrike">
                <a:solidFill>
                  <a:srgbClr val="000000"/>
                </a:solidFill>
                <a:latin typeface="Arial"/>
              </a:rPr>
              <a:t>x</a:t>
            </a:r>
            <a:r>
              <a:rPr b="0" lang="el-GR" sz="1200" spc="-1" strike="noStrike">
                <a:solidFill>
                  <a:srgbClr val="000000"/>
                </a:solidFill>
                <a:latin typeface="Arial"/>
              </a:rPr>
              <a:t> 10-2 μ</a:t>
            </a:r>
            <a:r>
              <a:rPr b="0" lang="en-US" sz="1200" spc="-1" strike="noStrike">
                <a:solidFill>
                  <a:srgbClr val="000000"/>
                </a:solidFill>
                <a:latin typeface="Arial"/>
              </a:rPr>
              <a:t>m</a:t>
            </a:r>
            <a:r>
              <a:rPr b="0" lang="el-GR" sz="1200" spc="-1" strike="noStrike">
                <a:solidFill>
                  <a:srgbClr val="000000"/>
                </a:solidFill>
                <a:latin typeface="Arial"/>
              </a:rPr>
              <a:t>. Λαμβάνουν χώρα πολλές αλληλεπιδράσεις στο δείγμα με αποτέλεσμα την εκπομπή ηλεκτρονίων ή φωτονίω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δέσμη ηλεκτρονίων που προσπίπτει πάνω στο  δείγμα αλληλεπιδρά με τα άτομα του δείγματος και παράγεται χαρακτηριστική ακτινοβολία και σωματίδια που μεταφέρουν την πληροφορία για το υλικό. Η πληροφορία λαμβάνεται από τα σκεδαζόμενα και τα μη σκεδαζόμενα ηλεκτρόνια διέλευσης, από ηλεκτρόνια οπισθοσκέδασησ και δευτερογενή ηλεκτρόνια και από τα εκπεμπόμενα φωτόνια, ακτίνες Χ. τα αποτελέσματα προβάλλονται σε φθορίζουσα οθόνη ως φωτεινές και σκοτεινές περιοχές.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Διάγραμμα συσκευήσ φασματόμετρου οπτικής εκπομπ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Το δείγμα τοποθετείται στο ηλεκτρόδιο, το οποίο είναι κοίλο και πορώδες, από προηγούμενη θέρμανση σε φλόγ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Το διάλυμα μεταφέρεται βαθμιαία στον πυθμένα όπου και εξαερώνεται, με αποτέλεσμα τα άτομα να διεγείρονται από εκκένωση σπινθήρα που δημιουργείται μεταξύ των δυο ηλεκτροδίων.</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φώς που εκπέμπεται αποτελείται από διακριτά λ ή φασματικές γραμμές, που ισοδυναμούν με χαρακτηριστικά του κάθε στοιχείου που διεγείρετα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θορίζοντας επομένως τα συγκεκριμένα λ μπορούμε να αναγνωρίσουμε τα χημικά στοιχεία που εντοπίζονται στο κάθε δείγμα, ενώ η ένταση του φωτός που εκπέμπεται ισοδυναμεί με τη συγκέντρωση του στοιχείου στο δείγμ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λ  καθορίζεται με πρίσμα ή περιθλασιόμετρο και ανιχνεύεται με φωτογραφική πλάκα ή φωτοπολλαπλασιαστ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μελέτη του φωτός που εκπέμπεται, επομένως της συγκέντρωσης του εκάστοτε στοιχείου, περιορίζεται σε μήκη κύματος λ&lt;0,2μ</a:t>
            </a:r>
            <a:r>
              <a:rPr b="0" lang="en-US" sz="1200" spc="-1" strike="noStrike">
                <a:solidFill>
                  <a:srgbClr val="000000"/>
                </a:solidFill>
                <a:latin typeface="Arial"/>
              </a:rPr>
              <a:t>m</a:t>
            </a:r>
            <a:r>
              <a:rPr b="0" lang="el-GR" sz="1200" spc="-1" strike="noStrike">
                <a:solidFill>
                  <a:srgbClr val="000000"/>
                </a:solidFill>
                <a:latin typeface="Arial"/>
              </a:rPr>
              <a:t>. Το φώς μικρότερου λ απορροφάται από τον αέρ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νιχνεύονται περίπου 30-40 στοιχεία σημαντικά για τη χρονολόγηση κεραμικών, μπρούτζου, γυαλιού και οψιανού.</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Δέσμη ακτίνας </a:t>
            </a:r>
            <a:r>
              <a:rPr b="0" lang="en-US" sz="1200" spc="-1" strike="noStrike">
                <a:solidFill>
                  <a:srgbClr val="000000"/>
                </a:solidFill>
                <a:latin typeface="Arial"/>
              </a:rPr>
              <a:t>laser</a:t>
            </a:r>
            <a:r>
              <a:rPr b="0" lang="el-GR" sz="1200" spc="-1" strike="noStrike">
                <a:solidFill>
                  <a:srgbClr val="000000"/>
                </a:solidFill>
                <a:latin typeface="Arial"/>
              </a:rPr>
              <a:t>, διαμέτρου 100μ</a:t>
            </a:r>
            <a:r>
              <a:rPr b="0" lang="en-US" sz="1200" spc="-1" strike="noStrike">
                <a:solidFill>
                  <a:srgbClr val="000000"/>
                </a:solidFill>
                <a:latin typeface="Arial"/>
              </a:rPr>
              <a:t>m</a:t>
            </a:r>
            <a:r>
              <a:rPr b="0" lang="el-GR" sz="1200" spc="-1" strike="noStrike">
                <a:solidFill>
                  <a:srgbClr val="000000"/>
                </a:solidFill>
                <a:latin typeface="Arial"/>
              </a:rPr>
              <a:t>, προσπίπτει σε συγκεκριμένη και κατάλληλη επιφάνεια του τέχνεργου, ακολουθεί από τη σύντομη ακτίνα, εξάχνωση λίγων μικρογραμμαρίων. Με βοηθητική εκκένωση σπινθήρα διεγείρονται τα άτομα στον ατμό εξάχνωσ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ιο σύντομη μέθοδος</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Το δείγμα τοποθετείται σε διάλυμα με ισχυρά οξέα, τα οποία μπορεί να είναι για τα μεν μέταλλα, νιτρικό οξύ με υδροχλωρικό οξύ και για τα μη μέταλλα υδροφθορικό και υπερχλωρικό οξύ.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Πρέπει αρχικά να επιλεχθεί ένα συγκεκριμένο χημικό στοιχείο το οποίο θα ανιχνέυσουμε για τη χρονολόγηση.</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χηματίζεται εκνέφωση σε λίγα </a:t>
            </a:r>
            <a:r>
              <a:rPr b="0" lang="en-US" sz="1200" spc="-1" strike="noStrike">
                <a:solidFill>
                  <a:srgbClr val="000000"/>
                </a:solidFill>
                <a:latin typeface="Arial"/>
              </a:rPr>
              <a:t>ml</a:t>
            </a:r>
            <a:r>
              <a:rPr b="0" lang="el-GR" sz="1200" spc="-1" strike="noStrike">
                <a:solidFill>
                  <a:srgbClr val="000000"/>
                </a:solidFill>
                <a:latin typeface="Arial"/>
              </a:rPr>
              <a:t> του διαλύματος ώστε να σχηματίσουν λεπτό ψεκασμοί οποίος μεταφέρεται σε κατάλληλη φλόγα, όπου το διάλυμα ατομικοποιείται, δηλαδή δημιουργείται ατμόσφαιρα ατόμω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πό την άλλη πλευρά μια πηγή φωτός καθορισμένου λ με ακρίβεια, από καθοδική λυχνία, εκπέμπει μονοχρωματική δέσμη η οποία εστιάζει στο κέντρο της φλόγας. Η φλόγα μπορεί να είναι ακετυλένιο με νιτρώδες οξείδιο ή αέρ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τά τη διέλευση μέσα από το εκνέφωμα αυτό η μονοχρωματική ακτινοβολία απορροφάται μερικώς από τα άτομα του στοιχείου του οποίου η συγκέντρωση αναζητάτε. Η δέσμη που τελικά διέρχεται από το εκνέφωμα προσπίπτει σε πρίσμα και διέρχεται από μονοχρωματικό αναλυτή, ο οποίος επιτρέπει τη διέλευση χαρακτηριστικού λ και τη διαχωρίζει από το υπόστρωμα φωτός</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τελική ένταση Ι του μονοχρωματικού φωτός με το χαρακτηριστικό λ μετράται με φωτοπολλαπλασιαστή και εμφανίζεται σε καταγραφικό ή σε οθόν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ένταση Ιτ του καταγραφόμενου λ συγκρίνεται με την αρχική ένταση Ιο του χαρακτηριστικού λ της μονοχρωματικής δέσμης όπως ακριβώς αυτή εξήλθε από την πηγή.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ποσοστό της απορρόφησης της δέσμης που εξαρτάται από το επιλεγμένο προς ανίχνευση στοιχείο μετράται σε όρους απορροφητικότητας Α και δίνεται από τον τύπο Α= </a:t>
            </a:r>
            <a:r>
              <a:rPr b="0" lang="en-US" sz="1200" spc="-1" strike="noStrike">
                <a:solidFill>
                  <a:srgbClr val="000000"/>
                </a:solidFill>
                <a:latin typeface="Arial"/>
              </a:rPr>
              <a:t>log Io/I</a:t>
            </a:r>
            <a:r>
              <a:rPr b="0" lang="el-GR" sz="1200" spc="-1" strike="noStrike">
                <a:solidFill>
                  <a:srgbClr val="000000"/>
                </a:solidFill>
                <a:latin typeface="Arial"/>
              </a:rPr>
              <a:t>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κολούθως με την ίδια διαδικασία προσδιορίζονται και τα υπόλοιπα χημικά στοιχεία της σύστασης του προς μελέτη τέχνεργο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κάθε χημ. Στοιχείο χρησιμοποιείται δέσμη μονοχρωματικού φωτός διαφορετικού σταθερού 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Τρείς κλασικές αναλυτικές μέθοδοι ακτίνων 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Διαφέρουν ως προς τις συσκευές, ως προς τις φυσικές αρχές στις οποίες βασίζονται και ως προς το είδος της πληροφορίας που λαμβάνεται.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5EA05B-365C-4D83-9702-DB0B9C9D5D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D7BF11-8241-4578-A25C-9648936ED4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66E2EA-B66F-4443-B9B1-3BF20AE61A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A1A140-3209-4E48-948E-BF74A91ACA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F50D83-DD93-4C33-8739-6DE28E0F2C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FB8AE3-D582-48A5-9197-C6996FDD96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DC8D71-8F76-460F-8A1B-0574A16EBB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BD75B0-6D8F-44B8-BF75-64C226B530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0B86E0-E7CE-4F0F-BEDF-2B198D72A1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3F6CB-BD19-41CE-AC49-87145CF32A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C331E-04F8-4292-97BF-C467FBFAC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B9F3B-47EA-484D-95B0-4EF9AEEBA8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092D0-CCDE-4126-9CBB-A6ACAEF4AB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l-GR" sz="4400" spc="-1" strike="noStrike">
                <a:solidFill>
                  <a:srgbClr val="000000"/>
                </a:solidFill>
                <a:latin typeface="Arial"/>
              </a:rPr>
              <a:t>προσδιορισμός χημικής σύστασης</a:t>
            </a:r>
            <a:r>
              <a:rPr b="0" lang="en-US" sz="4400" spc="-1" strike="noStrike">
                <a:solidFill>
                  <a:srgbClr val="000000"/>
                </a:solidFill>
                <a:latin typeface="Arial"/>
              </a:rPr>
              <a:t> </a:t>
            </a:r>
            <a:r>
              <a:rPr b="0" lang="el-GR" sz="4400" spc="-1" strike="noStrike">
                <a:solidFill>
                  <a:srgbClr val="000000"/>
                </a:solidFill>
                <a:latin typeface="Arial"/>
              </a:rPr>
              <a:t>αρχαιολογικών αντικειμένων</a:t>
            </a:r>
            <a:endParaRPr b="0" lang="en-US" sz="4400" spc="-1" strike="noStrike">
              <a:solidFill>
                <a:srgbClr val="000000"/>
              </a:solidFill>
              <a:latin typeface="Arial"/>
            </a:endParaRPr>
          </a:p>
          <a:p>
            <a:pPr marL="6094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6094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Arial"/>
              </a:rPr>
              <a:t>Α</a:t>
            </a:r>
            <a:r>
              <a:rPr b="0" lang="en-US" sz="4400" spc="-1" strike="noStrike">
                <a:solidFill>
                  <a:srgbClr val="000000"/>
                </a:solidFill>
                <a:latin typeface="Arial"/>
              </a:rPr>
              <a:t> </a:t>
            </a:r>
            <a:r>
              <a:rPr b="0" lang="el-GR" sz="4400" spc="-1" strike="noStrike">
                <a:solidFill>
                  <a:srgbClr val="000000"/>
                </a:solidFill>
                <a:latin typeface="Arial"/>
              </a:rPr>
              <a:t>μέρος</a:t>
            </a:r>
            <a:endParaRPr b="0" lang="en-US" sz="4400" spc="-1" strike="noStrike">
              <a:solidFill>
                <a:srgbClr val="000000"/>
              </a:solidFill>
              <a:latin typeface="Arial"/>
            </a:endParaRPr>
          </a:p>
          <a:p>
            <a:pPr marL="6094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transition>
    <p:pull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0" y="0"/>
            <a:ext cx="9144000" cy="6524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Χρονολογεί κεραμικά σκεύη, πηλούς γενικότερα, ιζήματα από ανασκαφές, οψιανούς, ασβεστόλιθους, ηφαιστειακά πετρώματα, π.χ. γρανίτη, φαγεντιανή, μεταλλικά αντικείμενα, γυάλινα αντικείμενα, χρωστικές, τοιχογραφίες, στιλβώματα, επιχρίσματα.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Ιδανικότερη μέθοδος κυρίως για στιλβώματα, επιχρίσματα, λόγω της χαμηλής διεισδυτικότητας των ακτίνων Χ.</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Μη καταστροφική μέθοδος</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Χρήση συσκευών φορητών (σε μεγάλου μεγέθους αντικείμενα) και μη (σε μικρού μεγέθους αντικείμενα).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Δειγματοληψία</a:t>
            </a:r>
            <a:r>
              <a:rPr b="0" lang="el-GR" sz="2800" spc="-1" strike="noStrike">
                <a:solidFill>
                  <a:srgbClr val="000000"/>
                </a:solidFill>
                <a:latin typeface="Wingdings"/>
                <a:ea typeface="Wingdings"/>
              </a:rPr>
              <a:t></a:t>
            </a:r>
            <a:r>
              <a:rPr b="0" lang="el-GR" sz="2800" spc="-1" strike="noStrike">
                <a:solidFill>
                  <a:srgbClr val="000000"/>
                </a:solidFill>
                <a:latin typeface="Arial"/>
              </a:rPr>
              <a:t> δεν υπάρχει συγκεκριμένη διαδικασία</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φάλμα </a:t>
            </a:r>
            <a:r>
              <a:rPr b="0" lang="en-US" sz="2800" spc="-1" strike="noStrike">
                <a:solidFill>
                  <a:srgbClr val="000000"/>
                </a:solidFill>
                <a:latin typeface="Arial"/>
              </a:rPr>
              <a:t>±</a:t>
            </a:r>
            <a:r>
              <a:rPr b="0" lang="el-GR" sz="2800" spc="-1" strike="noStrike">
                <a:solidFill>
                  <a:srgbClr val="000000"/>
                </a:solidFill>
                <a:latin typeface="Arial"/>
              </a:rPr>
              <a:t>5%</a:t>
            </a:r>
            <a:endParaRPr b="0" lang="en-US" sz="2800" spc="-1" strike="noStrike">
              <a:solidFill>
                <a:srgbClr val="000000"/>
              </a:solidFill>
              <a:latin typeface="Arial"/>
            </a:endParaRPr>
          </a:p>
        </p:txBody>
      </p:sp>
    </p:spTree>
  </p:cSld>
  <p:transition>
    <p:pull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260280"/>
            <a:ext cx="8229600" cy="63374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μέθοδος βασίζεται στο φαινόμενο της μετακίνησης ηλεκτρονίων από τις εξωτερικές στοιβάδες του ατόμου εκτός των ατόμων, μετά από την ακτινοβόλησή τους με πρωτογενείς ακτίνες Χ, οι οποίες απορροφώνται από το εκτοπιζόμενο ηλεκτρόνιο, του οποίου η θέση στη στοιβάδα καλύπτεται από ηλεκτρόνιο της αμέσως επόμενης</a:t>
            </a:r>
            <a:r>
              <a:rPr b="0" lang="en-US" sz="2800" spc="-1" strike="noStrike">
                <a:solidFill>
                  <a:srgbClr val="000000"/>
                </a:solidFill>
                <a:latin typeface="Arial"/>
              </a:rPr>
              <a:t> </a:t>
            </a:r>
            <a:r>
              <a:rPr b="0" lang="el-GR" sz="2800" spc="-1" strike="noStrike">
                <a:solidFill>
                  <a:srgbClr val="000000"/>
                </a:solidFill>
                <a:latin typeface="Arial"/>
              </a:rPr>
              <a:t>στοιβάδας, η μετακίνηση του οποίου εκπέμπει δευτερογενή ακτίνα Χ, με λ από 2</a:t>
            </a:r>
            <a:r>
              <a:rPr b="0" lang="en-US" sz="2800" spc="-1" strike="noStrike">
                <a:solidFill>
                  <a:srgbClr val="000000"/>
                </a:solidFill>
                <a:latin typeface="Arial"/>
              </a:rPr>
              <a:t>x10</a:t>
            </a:r>
            <a:r>
              <a:rPr b="0" lang="en-US" sz="2800" spc="-1" strike="noStrike" baseline="30000">
                <a:solidFill>
                  <a:srgbClr val="000000"/>
                </a:solidFill>
                <a:latin typeface="Arial"/>
              </a:rPr>
              <a:t>-5</a:t>
            </a:r>
            <a:r>
              <a:rPr b="0" lang="el-GR" sz="2800" spc="-1" strike="noStrike">
                <a:solidFill>
                  <a:srgbClr val="000000"/>
                </a:solidFill>
                <a:latin typeface="Arial"/>
              </a:rPr>
              <a:t> έως</a:t>
            </a:r>
            <a:r>
              <a:rPr b="0" lang="en-US" sz="2800" spc="-1" strike="noStrike">
                <a:solidFill>
                  <a:srgbClr val="000000"/>
                </a:solidFill>
                <a:latin typeface="Arial"/>
              </a:rPr>
              <a:t> 2x10</a:t>
            </a:r>
            <a:r>
              <a:rPr b="0" lang="en-US" sz="2800" spc="-1" strike="noStrike" baseline="30000">
                <a:solidFill>
                  <a:srgbClr val="000000"/>
                </a:solidFill>
                <a:latin typeface="Arial"/>
              </a:rPr>
              <a:t>-4</a:t>
            </a:r>
            <a:r>
              <a:rPr b="0" lang="el-GR" sz="2800" spc="-1" strike="noStrike" baseline="30000">
                <a:solidFill>
                  <a:srgbClr val="000000"/>
                </a:solidFill>
                <a:latin typeface="Arial"/>
              </a:rPr>
              <a:t> </a:t>
            </a:r>
            <a:r>
              <a:rPr b="0" lang="el-GR" sz="2800" spc="-1" strike="noStrike">
                <a:solidFill>
                  <a:srgbClr val="000000"/>
                </a:solidFill>
                <a:latin typeface="Arial"/>
              </a:rPr>
              <a:t>μ</a:t>
            </a:r>
            <a:r>
              <a:rPr b="0" lang="en-US" sz="2800" spc="-1" strike="noStrike">
                <a:solidFill>
                  <a:srgbClr val="000000"/>
                </a:solidFill>
                <a:latin typeface="Arial"/>
              </a:rPr>
              <a:t>m.</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λ</a:t>
            </a:r>
            <a:r>
              <a:rPr b="0" lang="el-GR" sz="2800" spc="-1" strike="noStrike" baseline="-25000">
                <a:solidFill>
                  <a:srgbClr val="000000"/>
                </a:solidFill>
                <a:latin typeface="Arial"/>
              </a:rPr>
              <a:t>κ</a:t>
            </a:r>
            <a:r>
              <a:rPr b="0" lang="el-GR" sz="2800" spc="-1" strike="noStrike">
                <a:solidFill>
                  <a:srgbClr val="000000"/>
                </a:solidFill>
                <a:latin typeface="Arial"/>
              </a:rPr>
              <a:t>=0,12/(Ζ-1)</a:t>
            </a:r>
            <a:r>
              <a:rPr b="0" lang="el-GR" sz="2800" spc="-1" strike="noStrike" baseline="30000">
                <a:solidFill>
                  <a:srgbClr val="000000"/>
                </a:solidFill>
                <a:latin typeface="Arial"/>
              </a:rPr>
              <a:t>2</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λ</a:t>
            </a:r>
            <a:r>
              <a:rPr b="0" lang="en-US" sz="2800" spc="-1" strike="noStrike" baseline="-25000">
                <a:solidFill>
                  <a:srgbClr val="000000"/>
                </a:solidFill>
                <a:latin typeface="Arial"/>
              </a:rPr>
              <a:t>L</a:t>
            </a:r>
            <a:r>
              <a:rPr b="0" lang="el-GR" sz="2800" spc="-1" strike="noStrike">
                <a:solidFill>
                  <a:srgbClr val="000000"/>
                </a:solidFill>
                <a:latin typeface="Arial"/>
              </a:rPr>
              <a:t>=0,65/(Ζ-7,4)</a:t>
            </a:r>
            <a:r>
              <a:rPr b="0" lang="el-GR" sz="2800" spc="-1" strike="noStrike" baseline="30000">
                <a:solidFill>
                  <a:srgbClr val="000000"/>
                </a:solidFill>
                <a:latin typeface="Arial"/>
              </a:rPr>
              <a:t>2</a:t>
            </a:r>
            <a:r>
              <a:rPr b="0" lang="el-GR" sz="2800" spc="-1" strike="noStrike">
                <a:solidFill>
                  <a:srgbClr val="000000"/>
                </a:solidFill>
                <a:latin typeface="Arial"/>
              </a:rPr>
              <a:t> </a:t>
            </a:r>
            <a:endParaRPr b="0" lang="en-US" sz="2800" spc="-1" strike="noStrike">
              <a:solidFill>
                <a:srgbClr val="000000"/>
              </a:solidFill>
              <a:latin typeface="Arial"/>
            </a:endParaRPr>
          </a:p>
        </p:txBody>
      </p:sp>
    </p:spTree>
  </p:cSld>
  <p:transition>
    <p:pull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324000" y="6253200"/>
            <a:ext cx="8229600" cy="60480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Πηγή: Λυριτζής Ι., 2007, </a:t>
            </a:r>
            <a:r>
              <a:rPr b="0" i="1" lang="en-US" sz="2000" spc="-1" strike="noStrike">
                <a:solidFill>
                  <a:srgbClr val="000000"/>
                </a:solidFill>
                <a:latin typeface="Arial"/>
              </a:rPr>
              <a:t>Φυσικές Επιστήμες στην Αρχαιολογία, </a:t>
            </a:r>
            <a:r>
              <a:rPr b="0" lang="en-US" sz="2000" spc="-1" strike="noStrike">
                <a:solidFill>
                  <a:srgbClr val="000000"/>
                </a:solidFill>
                <a:latin typeface="Arial"/>
              </a:rPr>
              <a:t>Εκδόσεις Δάρδανος Τυπωθήτω, Αθήνα, σ.σ. 147</a:t>
            </a:r>
            <a:endParaRPr b="0" lang="en-US" sz="2000" spc="-1" strike="noStrike">
              <a:solidFill>
                <a:srgbClr val="000000"/>
              </a:solidFill>
              <a:latin typeface="Arial"/>
            </a:endParaRPr>
          </a:p>
        </p:txBody>
      </p:sp>
      <p:pic>
        <p:nvPicPr>
          <p:cNvPr id="65" name="" descr=""/>
          <p:cNvPicPr/>
          <p:nvPr/>
        </p:nvPicPr>
        <p:blipFill>
          <a:blip r:embed="rId2">
            <a:lum bright="12000"/>
          </a:blip>
          <a:stretch/>
        </p:blipFill>
        <p:spPr>
          <a:xfrm>
            <a:off x="0" y="692280"/>
            <a:ext cx="9150480" cy="5233680"/>
          </a:xfrm>
          <a:prstGeom prst="rect">
            <a:avLst/>
          </a:prstGeom>
          <a:ln w="0">
            <a:noFill/>
          </a:ln>
        </p:spPr>
      </p:pic>
    </p:spTree>
  </p:cSld>
  <p:transition>
    <p:pull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Ο προσδιορισμός των λ των δευτερογενών ακτίνων Χ που εκπέμπονται προσφέρει τη βάση για αναγνώριση των στοιχείων στο δείγμα</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Ο προσδιορισμός της έντασης των ακτίνων Χ σε συγκεκριμένο λ εκτιμά τη συγκέντρωση του στοιχείου.</a:t>
            </a:r>
            <a:endParaRPr b="0" lang="en-US" sz="3200" spc="-1" strike="noStrike">
              <a:solidFill>
                <a:srgbClr val="000000"/>
              </a:solidFill>
              <a:latin typeface="Arial"/>
            </a:endParaRPr>
          </a:p>
        </p:txBody>
      </p:sp>
    </p:spTree>
  </p:cSld>
  <p:transition>
    <p:pull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Εφαρμογή άμεσα στο αντικείμενο</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Δεν εφαρμόζεται σε όλα τα υλικά λόγω της μικρής διεισδυτικότητα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Περιορίζεται σε στοιχεία με κατώτατο όριο ανίχνευσης στο Ζ=22 (τιτάνιο). Με μετρήσεις σε κενό αέρος μπορεί να προσεγγιστούν και στοιχεία με μικρότερο Ζ, της τάξεως του μαγνησίου με Ζ=12</a:t>
            </a:r>
            <a:endParaRPr b="0" lang="en-US" sz="3200" spc="-1" strike="noStrike">
              <a:solidFill>
                <a:srgbClr val="000000"/>
              </a:solidFill>
              <a:latin typeface="Arial"/>
            </a:endParaRPr>
          </a:p>
        </p:txBody>
      </p:sp>
    </p:spTree>
  </p:cSld>
  <p:transition>
    <p:pull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Ανάλυση με νετρόνια, ή νετρονική ενεργοποίηση</a:t>
            </a:r>
            <a:br>
              <a:rPr sz="4000"/>
            </a:br>
            <a:r>
              <a:rPr b="0" lang="en-US" sz="4000" spc="-1" strike="noStrike">
                <a:solidFill>
                  <a:srgbClr val="000000"/>
                </a:solidFill>
                <a:latin typeface="Arial"/>
              </a:rPr>
              <a:t>ΑΝΕ</a:t>
            </a:r>
            <a:endParaRPr b="0" lang="en-US" sz="40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Χρονολογεί κεραμικά, πετρώματα, γυαλιά, οψιανούς, φαγεντιανή, ιζήματα, μέταλλα, πυριτόλιθους.</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Βασίζεται στο βομβαρδισμό των πυρήνων των ατόμων των στοιχείων του δείγματος από νετρόνια και στην αντίδραση των πυρήνων αυτών με εκπομπή ακτίνων γ.</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Δειγματοληψία</a:t>
            </a:r>
            <a:r>
              <a:rPr b="0" lang="el-GR" sz="2800" spc="-1" strike="noStrike">
                <a:solidFill>
                  <a:srgbClr val="000000"/>
                </a:solidFill>
                <a:latin typeface="Wingdings"/>
                <a:ea typeface="Wingdings"/>
              </a:rPr>
              <a:t></a:t>
            </a:r>
            <a:r>
              <a:rPr b="0" lang="el-GR" sz="2800" spc="-1" strike="noStrike">
                <a:solidFill>
                  <a:srgbClr val="000000"/>
                </a:solidFill>
                <a:latin typeface="Arial"/>
              </a:rPr>
              <a:t> 50-100</a:t>
            </a:r>
            <a:r>
              <a:rPr b="0" lang="en-US" sz="2800" spc="-1" strike="noStrike">
                <a:solidFill>
                  <a:srgbClr val="000000"/>
                </a:solidFill>
                <a:latin typeface="Arial"/>
              </a:rPr>
              <a:t>mg</a:t>
            </a:r>
            <a:r>
              <a:rPr b="0" lang="el-GR" sz="2800" spc="-1" strike="noStrike">
                <a:solidFill>
                  <a:srgbClr val="000000"/>
                </a:solidFill>
                <a:latin typeface="Arial"/>
              </a:rPr>
              <a:t> αντικειμένου, σε μορφή δισκίου. Στα μικρού μεγέθους αντικείμενα, όπως νομίσματα, η ανάλυση μπορεί να γίνει χωρίς την απόσπαση δείγματος.</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φάλμα &lt;</a:t>
            </a:r>
            <a:r>
              <a:rPr b="0" lang="en-US" sz="2800" spc="-1" strike="noStrike">
                <a:solidFill>
                  <a:srgbClr val="000000"/>
                </a:solidFill>
                <a:latin typeface="Arial"/>
              </a:rPr>
              <a:t>±</a:t>
            </a:r>
            <a:r>
              <a:rPr b="0" lang="el-GR" sz="2800" spc="-1" strike="noStrike">
                <a:solidFill>
                  <a:srgbClr val="000000"/>
                </a:solidFill>
                <a:latin typeface="Arial"/>
              </a:rPr>
              <a:t>5%</a:t>
            </a:r>
            <a:endParaRPr b="0" lang="en-US" sz="2800" spc="-1" strike="noStrike">
              <a:solidFill>
                <a:srgbClr val="000000"/>
              </a:solidFill>
              <a:latin typeface="Arial"/>
            </a:endParaRPr>
          </a:p>
        </p:txBody>
      </p:sp>
    </p:spTree>
  </p:cSld>
  <p:transition>
    <p:pull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Οι ενέργειες των ακτίνων γ που εκπέμπονται από το δείγμα προσφέρουν τη βάση για την αναγνώριση των στοιχείω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Η ένταση των ακτίνων γ δίνουν τη συγκέντρωση σε ποσοστό επί τοις εκατό του στοιχείου που βρίσκεται στο δείγμα.</a:t>
            </a:r>
            <a:endParaRPr b="0" lang="en-US" sz="3200" spc="-1" strike="noStrike">
              <a:solidFill>
                <a:srgbClr val="000000"/>
              </a:solidFill>
              <a:latin typeface="Arial"/>
            </a:endParaRPr>
          </a:p>
        </p:txBody>
      </p:sp>
    </p:spTree>
  </p:cSld>
  <p:transition>
    <p:pull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Μικροσκοπικές μέθοδοι</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Πετρογραφικό μικροσκόπιο</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Μεταλλογραφικό μικροσκόπιο</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Ηλεκτρονικό μικροσκόπιο</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Λοιπές μη καταστροφικές φωτογραφικές τεχνικές</a:t>
            </a:r>
            <a:endParaRPr b="0" lang="en-US" sz="3200" spc="-1" strike="noStrike">
              <a:solidFill>
                <a:srgbClr val="000000"/>
              </a:solidFill>
              <a:latin typeface="Arial"/>
            </a:endParaRPr>
          </a:p>
        </p:txBody>
      </p:sp>
    </p:spTree>
  </p:cSld>
  <p:transition>
    <p:pull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Πετρογραφικό μικροσκόπιο</a:t>
            </a:r>
            <a:endParaRPr b="0" lang="en-US" sz="4400" spc="-1" strike="noStrike">
              <a:solidFill>
                <a:srgbClr val="000000"/>
              </a:solidFill>
              <a:latin typeface="Arial"/>
            </a:endParaRPr>
          </a:p>
        </p:txBody>
      </p:sp>
      <p:sp>
        <p:nvSpPr>
          <p:cNvPr id="74" name="PlaceHolder 2"/>
          <p:cNvSpPr>
            <a:spLocks noGrp="1"/>
          </p:cNvSpPr>
          <p:nvPr>
            <p:ph/>
          </p:nvPr>
        </p:nvSpPr>
        <p:spPr>
          <a:xfrm>
            <a:off x="539640" y="6108480"/>
            <a:ext cx="8229600" cy="74916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Πηγή: Λυριτζής Ι., 2007, </a:t>
            </a:r>
            <a:r>
              <a:rPr b="0" i="1" lang="en-US" sz="2000" spc="-1" strike="noStrike">
                <a:solidFill>
                  <a:srgbClr val="000000"/>
                </a:solidFill>
                <a:latin typeface="Arial"/>
              </a:rPr>
              <a:t>Φυσικές Επιστήμες στην Αρχαιολογία, </a:t>
            </a:r>
            <a:r>
              <a:rPr b="0" lang="en-US" sz="2000" spc="-1" strike="noStrike">
                <a:solidFill>
                  <a:srgbClr val="000000"/>
                </a:solidFill>
                <a:latin typeface="Arial"/>
              </a:rPr>
              <a:t>Εκδόσεις Δάρδανος Τυπωθήτω, Αθήνα, σ.σ. 195</a:t>
            </a:r>
            <a:endParaRPr b="0" lang="en-US" sz="2000" spc="-1" strike="noStrike">
              <a:solidFill>
                <a:srgbClr val="000000"/>
              </a:solidFill>
              <a:latin typeface="Arial"/>
            </a:endParaRPr>
          </a:p>
        </p:txBody>
      </p:sp>
      <p:pic>
        <p:nvPicPr>
          <p:cNvPr id="75" name="" descr=""/>
          <p:cNvPicPr/>
          <p:nvPr/>
        </p:nvPicPr>
        <p:blipFill>
          <a:blip r:embed="rId2"/>
          <a:stretch/>
        </p:blipFill>
        <p:spPr>
          <a:xfrm>
            <a:off x="2987640" y="1268280"/>
            <a:ext cx="3240000" cy="4608720"/>
          </a:xfrm>
          <a:prstGeom prst="rect">
            <a:avLst/>
          </a:prstGeom>
          <a:ln w="0">
            <a:noFill/>
          </a:ln>
        </p:spPr>
      </p:pic>
    </p:spTree>
  </p:cSld>
  <p:transition>
    <p:pull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7200" y="259920"/>
            <a:ext cx="8229600" cy="6597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Η πετρογραφική εξέταση γίνεται για την αναγνώριση των πετρωμάτων των λίθινων εργαλείων.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Αρχική απόσπαση τμήματος υλικού 1 χιλιοστού και επιφάνειας 2 τετραγωνικών εκατοστών.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Λείανση μέχρι κατοπτρικού σημείου</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Επικόλληση σε γυάλινη επιφάνεια και συνέχεια λείανσης έως πάχος 30μ</a:t>
            </a:r>
            <a:r>
              <a:rPr b="0" lang="en-US" sz="3200" spc="-1" strike="noStrike">
                <a:solidFill>
                  <a:srgbClr val="000000"/>
                </a:solidFill>
                <a:latin typeface="Arial"/>
              </a:rPr>
              <a:t>m</a:t>
            </a:r>
            <a:r>
              <a:rPr b="0" lang="el-GR" sz="3200" spc="-1" strike="noStrike">
                <a:solidFill>
                  <a:srgbClr val="000000"/>
                </a:solidFill>
                <a:latin typeface="Arial"/>
              </a:rPr>
              <a:t>. Από αυτό το δείγμα διέρχεται το φώς στο μικροσκόπιο. </a:t>
            </a:r>
            <a:endParaRPr b="0" lang="en-US" sz="3200" spc="-1" strike="noStrike">
              <a:solidFill>
                <a:srgbClr val="000000"/>
              </a:solidFill>
              <a:latin typeface="Arial"/>
            </a:endParaRPr>
          </a:p>
        </p:txBody>
      </p:sp>
    </p:spTree>
  </p:cSld>
  <p:transition>
    <p:pull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68360" y="1341000"/>
            <a:ext cx="8229600" cy="5289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Χρονολογεί τέχνεργα από κεραμικά, μπρούτζο, γυαλί και οψιανό.</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Βασίζεται στο φυσικό φαινόμενο της διέγερσης των ηλεκτρονίων των ατόμων των εξωτερικών στοιβάδων στο υπό ανάλυση δείγμα</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Η απελευθερωμένη ενέργεια εμφανίζεται σαν ορατό φώς πολύ κοντά στο υπεριώδες</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Δειγματοληψία</a:t>
            </a:r>
            <a:r>
              <a:rPr b="0" lang="el-GR" sz="2400" spc="-1" strike="noStrike">
                <a:solidFill>
                  <a:srgbClr val="000000"/>
                </a:solidFill>
                <a:latin typeface="Wingdings"/>
                <a:ea typeface="Wingdings"/>
              </a:rPr>
              <a:t></a:t>
            </a:r>
            <a:r>
              <a:rPr b="0" lang="el-GR" sz="2400" spc="-1" strike="noStrike">
                <a:solidFill>
                  <a:srgbClr val="000000"/>
                </a:solidFill>
                <a:latin typeface="Arial"/>
              </a:rPr>
              <a:t> 10</a:t>
            </a:r>
            <a:r>
              <a:rPr b="0" lang="en-US" sz="2400" spc="-1" strike="noStrike">
                <a:solidFill>
                  <a:srgbClr val="000000"/>
                </a:solidFill>
                <a:latin typeface="Arial"/>
              </a:rPr>
              <a:t>mg</a:t>
            </a:r>
            <a:r>
              <a:rPr b="0" lang="el-GR" sz="2400" spc="-1" strike="noStrike">
                <a:solidFill>
                  <a:srgbClr val="000000"/>
                </a:solidFill>
                <a:latin typeface="Arial"/>
              </a:rPr>
              <a:t> δείγματος, αφαιρούνται με διάτρηση με τρυπανάκι από το μεταλλικό ή κεραμικό δείγμα, τοποθετούνται σε διάλυμα</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φάλμα </a:t>
            </a:r>
            <a:r>
              <a:rPr b="0" lang="en-US" sz="2400" spc="-1" strike="noStrike">
                <a:solidFill>
                  <a:srgbClr val="000000"/>
                </a:solidFill>
                <a:latin typeface="Arial"/>
              </a:rPr>
              <a:t>±</a:t>
            </a:r>
            <a:r>
              <a:rPr b="0" lang="el-GR" sz="2400" spc="-1" strike="noStrike">
                <a:solidFill>
                  <a:srgbClr val="000000"/>
                </a:solidFill>
                <a:latin typeface="Arial"/>
              </a:rPr>
              <a:t>10%</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Προσοχή να μην αποσπαστούν τμήματα εξωτερικής διάβρωσης επιφάνειας ή υάλωμα</a:t>
            </a:r>
            <a:endParaRPr b="0" lang="en-US" sz="2400" spc="-1" strike="noStrike">
              <a:solidFill>
                <a:srgbClr val="000000"/>
              </a:solidFill>
              <a:latin typeface="Arial"/>
            </a:endParaRPr>
          </a:p>
        </p:txBody>
      </p:sp>
      <p:sp>
        <p:nvSpPr>
          <p:cNvPr id="5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Φασματοσκοπία οπτικής εκπομπής </a:t>
            </a:r>
            <a:br>
              <a:rPr sz="4000"/>
            </a:br>
            <a:r>
              <a:rPr b="0" lang="en-US" sz="4000" spc="-1" strike="noStrike">
                <a:solidFill>
                  <a:srgbClr val="000000"/>
                </a:solidFill>
                <a:latin typeface="Arial"/>
              </a:rPr>
              <a:t>ΦΟΕ</a:t>
            </a:r>
            <a:endParaRPr b="0" lang="en-US" sz="4000" spc="-1" strike="noStrike">
              <a:solidFill>
                <a:srgbClr val="000000"/>
              </a:solidFill>
              <a:latin typeface="Arial"/>
            </a:endParaRPr>
          </a:p>
        </p:txBody>
      </p:sp>
    </p:spTree>
  </p:cSld>
  <p:transition>
    <p:pull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68360" y="333360"/>
            <a:ext cx="8229600" cy="6524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κάθε ορυκτό έχει μια συγκεκριμένη δομή στα άτομά του, των οποίων η διαμόρφωση προσδιορίζει το σχήμα του αδιάσπαστου κρυστάλλου.</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Η ομαλή διάταξη των ατόμων των ορυκτών έχει την ικανότητα να εμποδίζει τη διέλευση του φωτός και να το πολώνει </a:t>
            </a:r>
            <a:r>
              <a:rPr b="0" lang="el-GR" sz="2400" spc="-1" strike="noStrike">
                <a:solidFill>
                  <a:srgbClr val="000000"/>
                </a:solidFill>
                <a:latin typeface="Wingdings"/>
                <a:ea typeface="Wingdings"/>
              </a:rPr>
              <a:t></a:t>
            </a:r>
            <a:r>
              <a:rPr b="0" lang="el-GR" sz="2400" spc="-1" strike="noStrike">
                <a:solidFill>
                  <a:srgbClr val="000000"/>
                </a:solidFill>
                <a:latin typeface="Arial"/>
              </a:rPr>
              <a:t> ανισότροπα ορυκτά.</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Υπάρχουν ορυκτά με μη ομαλή δομή των ατόμων τους και δεν πολώνουν το φώς </a:t>
            </a:r>
            <a:r>
              <a:rPr b="0" lang="el-GR" sz="2400" spc="-1" strike="noStrike">
                <a:solidFill>
                  <a:srgbClr val="000000"/>
                </a:solidFill>
                <a:latin typeface="Wingdings"/>
                <a:ea typeface="Wingdings"/>
              </a:rPr>
              <a:t></a:t>
            </a:r>
            <a:r>
              <a:rPr b="0" lang="el-GR" sz="2400" spc="-1" strike="noStrike">
                <a:solidFill>
                  <a:srgbClr val="000000"/>
                </a:solidFill>
                <a:latin typeface="Arial"/>
              </a:rPr>
              <a:t> ισότροπα ορυκτά.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Οι ιδιότητες πόλωσης του κάθε ορυκτού ποικίλουν, το χαρακτηριστικό χρώμα που έχουν όταν τα προβάλλουμε σε πολωμένο φώς είναι διαφορετικό.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την αναγνώριση των κρυστάλλων, το φώς που διέρχεται στον κρύσταλλο διαθλάται και ο βαθμός διάθλασης εξαρτάται από το ορυκτό με το οποίο σχετίζεται.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Η ποικιλία των βαθμών διάθλασης των ορυκτών δίνει και διαφορετικό χρώμα σε κάθε ορυκτό στο μικροσκόπιο.</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Μεταλλογραφικό μικροσκόπιο</a:t>
            </a:r>
            <a:endParaRPr b="0" lang="en-US" sz="4400" spc="-1" strike="noStrike">
              <a:solidFill>
                <a:srgbClr val="000000"/>
              </a:solidFill>
              <a:latin typeface="Arial"/>
            </a:endParaRPr>
          </a:p>
        </p:txBody>
      </p:sp>
      <p:sp>
        <p:nvSpPr>
          <p:cNvPr id="79" name="PlaceHolder 2"/>
          <p:cNvSpPr>
            <a:spLocks noGrp="1"/>
          </p:cNvSpPr>
          <p:nvPr>
            <p:ph/>
          </p:nvPr>
        </p:nvSpPr>
        <p:spPr>
          <a:xfrm>
            <a:off x="468360" y="6066000"/>
            <a:ext cx="8229600" cy="79200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Πηγή: Λυριτζής Ι., 2007, </a:t>
            </a:r>
            <a:r>
              <a:rPr b="0" i="1" lang="en-US" sz="2000" spc="-1" strike="noStrike">
                <a:solidFill>
                  <a:srgbClr val="000000"/>
                </a:solidFill>
                <a:latin typeface="Arial"/>
              </a:rPr>
              <a:t>Φυσικές Επιστήμες στην Αρχαιολογία, </a:t>
            </a:r>
            <a:r>
              <a:rPr b="0" lang="en-US" sz="2000" spc="-1" strike="noStrike">
                <a:solidFill>
                  <a:srgbClr val="000000"/>
                </a:solidFill>
                <a:latin typeface="Arial"/>
              </a:rPr>
              <a:t>Εκδόσεις Δάρδανος Τυπωθήτω, Αθήνα, σ.σ. 204</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0" name="" descr=""/>
          <p:cNvPicPr/>
          <p:nvPr/>
        </p:nvPicPr>
        <p:blipFill>
          <a:blip r:embed="rId2"/>
          <a:stretch/>
        </p:blipFill>
        <p:spPr>
          <a:xfrm>
            <a:off x="2556000" y="1125360"/>
            <a:ext cx="3865320" cy="4292640"/>
          </a:xfrm>
          <a:prstGeom prst="rect">
            <a:avLst/>
          </a:prstGeom>
          <a:ln w="0">
            <a:noFill/>
          </a:ln>
        </p:spPr>
      </p:pic>
    </p:spTree>
  </p:cSld>
  <p:transition>
    <p:pull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Ηλεκτρονικό μικροσκόπιο</a:t>
            </a:r>
            <a:endParaRPr b="0" lang="en-US" sz="4400" spc="-1" strike="noStrike">
              <a:solidFill>
                <a:srgbClr val="000000"/>
              </a:solidFill>
              <a:latin typeface="Arial"/>
            </a:endParaRPr>
          </a:p>
        </p:txBody>
      </p:sp>
      <p:sp>
        <p:nvSpPr>
          <p:cNvPr id="82"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Ηλεκτρονικό μικροσκόπιο σάρωσης</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Δέσμη ηλεκτρονίων συγκεντρώνεται σε μικρό καθετήρα κι εστιάζει σε σημείο του δείγματος, σαρώνοντας συγκεκριμένη επιφάνεια.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Ηλεκτρονικό μικροσκόπιο διέλευσης.</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Ηλεκτρόνια που παράγονται από θερμαινόμενο νήμα επιταχύνονται και δημιουργούν δέσμη ηλεκτρονίων υψηλής ενέργειας, η οποία εστιάζει πάνω στο δείγμα.</a:t>
            </a:r>
            <a:endParaRPr b="0" lang="en-US" sz="2800" spc="-1" strike="noStrike">
              <a:solidFill>
                <a:srgbClr val="000000"/>
              </a:solidFill>
              <a:latin typeface="Arial"/>
            </a:endParaRPr>
          </a:p>
        </p:txBody>
      </p:sp>
    </p:spTree>
  </p:cSld>
  <p:transition>
    <p:pull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360" y="-360"/>
            <a:ext cx="8893080" cy="765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Άλλες μη καταστροφικές φωτογραφικές τεχνικές</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84" name=""/>
          <p:cNvGraphicFramePr/>
          <p:nvPr/>
        </p:nvGraphicFramePr>
        <p:xfrm>
          <a:off x="0" y="476280"/>
          <a:ext cx="9144000" cy="6199200"/>
        </p:xfrm>
        <a:graphic>
          <a:graphicData uri="http://schemas.openxmlformats.org/drawingml/2006/table">
            <a:tbl>
              <a:tblPr/>
              <a:tblGrid>
                <a:gridCol w="1528920"/>
                <a:gridCol w="2651040"/>
                <a:gridCol w="4964040"/>
              </a:tblGrid>
              <a:tr h="4316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ΣΚΟΠΟΣ </a:t>
                      </a:r>
                      <a:endParaRPr b="0" lang="en-US" sz="18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00ff00"/>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ΤΕΧΝΙΚΗ</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ΔΙΕΡΕΥΝΗΣΗ ΧΑΡΑΚΤΗΡΙΣΤΙΚΩΝ</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r>
              <a:tr h="314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οπτική εξέταση</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συμβατικός φωτισμός</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χρώμα, διαφάνεια, επίστρωση</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5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φωτισμός υπό κλίση</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επιφανειακή παραμόρφωση, ραγίσματα και ανακλάσεις</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5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διερχόμενος φωτισμός</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σχισμές μπαλώματα, απολεπίσματα, κηλίδες νερού</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14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Μεγέθυνση</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Στερεομικροσκοπία</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λεπτομέρειες, σύνθεση και Υφή</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μικροσκοπία πολωμένου Φωτός</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μορφολογία, ιδιότητες στο Φώς</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48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Μικροφωτογραφία</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μορφολογία, λεπτομέρειες, σύνθεση και Υφή</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5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ειδικός φωτισμός</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φωτογράφηση με υπέρυθρη</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ακτινοβολία</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ζωγραφικές και χρωματικές επιστρώσεις, χρωστικές</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347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φωτογράφηση με</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υπεριώδη ακτινοβολία</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φθορισμός, κηλίδες, στίλβωμα, Προηγούμενες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επισκευές και Προηγούμενες Αποκαταστάσεις</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48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ραδιογραφία με ακτίνες Χ</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και γ</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πυκνότητες στη σύσταση, εσωτερικές λεπτομέρειες</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5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απεικόνιση με</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υπολογιστή</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υπολογιστική τομογραφία</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εσωτερική και εξωτερική απεικόνιση του αντικειμένου</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σε 2 και 3 διαστάσεις</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υπολογιστική τομογραφία</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με στερεολιθική συσκευή</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και βιομοντελοποίηση</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απεικόνιση- αναπαράσταση σε 3 διαστάσεις για την</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παρασκευή μουσειακού αντικειμένου.</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subTitle"/>
          </p:nvPr>
        </p:nvSpPr>
        <p:spPr>
          <a:xfrm>
            <a:off x="1332000" y="6137280"/>
            <a:ext cx="6400800" cy="720720"/>
          </a:xfrm>
          <a:prstGeom prst="rect">
            <a:avLst/>
          </a:prstGeom>
          <a:noFill/>
          <a:ln w="0">
            <a:noFill/>
          </a:ln>
        </p:spPr>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Πηγή: Λυριτζής Ι., 2007, </a:t>
            </a:r>
            <a:r>
              <a:rPr b="0" i="1" lang="en-US" sz="1600" spc="-1" strike="noStrike">
                <a:solidFill>
                  <a:srgbClr val="000000"/>
                </a:solidFill>
                <a:latin typeface="Arial"/>
              </a:rPr>
              <a:t>Φυσικές Επιστήμες στην Αρχαιολογία, </a:t>
            </a:r>
            <a:r>
              <a:rPr b="0" lang="en-US" sz="1600" spc="-1" strike="noStrike">
                <a:solidFill>
                  <a:srgbClr val="000000"/>
                </a:solidFill>
                <a:latin typeface="Arial"/>
              </a:rPr>
              <a:t>Εκδόσεις Δάρδανος Τυπωθήτω, Αθήνα, σ.σ. 135</a:t>
            </a:r>
            <a:endParaRPr b="0" lang="en-US" sz="1600" spc="-1" strike="noStrike">
              <a:solidFill>
                <a:srgbClr val="000000"/>
              </a:solidFill>
              <a:latin typeface="Arial"/>
            </a:endParaRPr>
          </a:p>
        </p:txBody>
      </p:sp>
      <p:pic>
        <p:nvPicPr>
          <p:cNvPr id="52" name="" descr=""/>
          <p:cNvPicPr/>
          <p:nvPr/>
        </p:nvPicPr>
        <p:blipFill>
          <a:blip r:embed="rId2">
            <a:lum bright="12000"/>
          </a:blip>
          <a:stretch/>
        </p:blipFill>
        <p:spPr>
          <a:xfrm>
            <a:off x="0" y="1484280"/>
            <a:ext cx="9144000" cy="3052800"/>
          </a:xfrm>
          <a:prstGeom prst="rect">
            <a:avLst/>
          </a:prstGeom>
          <a:ln w="0">
            <a:noFill/>
          </a:ln>
        </p:spPr>
      </p:pic>
    </p:spTree>
  </p:cSld>
  <p:transition>
    <p:pull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Διακριτά μήκη κύματος, αναγνωριστικά των συναποτελούντων χημικών στοιχείω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Ένταση φωτός που εκπέμπεται </a:t>
            </a:r>
            <a:r>
              <a:rPr b="0" lang="el-GR" sz="3200" spc="-1" strike="noStrike">
                <a:solidFill>
                  <a:srgbClr val="000000"/>
                </a:solidFill>
                <a:latin typeface="Wingdings"/>
                <a:ea typeface="Wingdings"/>
              </a:rPr>
              <a:t></a:t>
            </a:r>
            <a:r>
              <a:rPr b="0" lang="el-GR" sz="3200" spc="-1" strike="noStrike">
                <a:solidFill>
                  <a:srgbClr val="000000"/>
                </a:solidFill>
                <a:latin typeface="Arial"/>
              </a:rPr>
              <a:t> συγκέντρωση εκάστοτε στοιχείου, προτιμώμενη επιλογή όταν λ&lt; 0,2μ</a:t>
            </a:r>
            <a:r>
              <a:rPr b="0" lang="en-US" sz="3200" spc="-1" strike="noStrike">
                <a:solidFill>
                  <a:srgbClr val="000000"/>
                </a:solidFill>
                <a:latin typeface="Arial"/>
              </a:rPr>
              <a:t>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Καθορισμός με πρίσμα ή περιθλασιόμετρο</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Ανίχνευση με φωτογραφική πλάκα ή φωτοπολλαπλασιαστή.</a:t>
            </a:r>
            <a:endParaRPr b="0" lang="en-US" sz="3200" spc="-1" strike="noStrike">
              <a:solidFill>
                <a:srgbClr val="000000"/>
              </a:solidFill>
              <a:latin typeface="Arial"/>
            </a:endParaRPr>
          </a:p>
        </p:txBody>
      </p:sp>
    </p:spTree>
  </p:cSld>
  <p:transition>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Εναλλακτικά ΦΟΕ με </a:t>
            </a:r>
            <a:r>
              <a:rPr b="0" lang="en-US" sz="2800" spc="-1" strike="noStrike">
                <a:solidFill>
                  <a:srgbClr val="000000"/>
                </a:solidFill>
                <a:latin typeface="Arial"/>
              </a:rPr>
              <a:t>laser</a:t>
            </a:r>
            <a:r>
              <a:rPr b="0" lang="el-GR" sz="2800" spc="-1" strike="noStrike">
                <a:solidFill>
                  <a:srgbClr val="000000"/>
                </a:solidFill>
                <a:latin typeface="Arial"/>
              </a:rPr>
              <a:t>, όπου το δείγμα δεν καταστρέφεται για δειγματοληψία.</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ρόσπτωση ακτίνας στην επιφάνεια του αντικειμένου, πρόκληση εξάχνωσης μικρογραμμαρίων του υλικού</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Εκκένωση σπινθήρα στον ατμό εξάχνωσης</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ύντομη μέθοδος</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επαναληπτικότητά της μη ικανοποιητική, για ποιοτικούς ή ποσοτικούς προσδιορισμούς.</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pull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Φασματοσκοπία ατομικής απορρόφησης </a:t>
            </a:r>
            <a:br>
              <a:rPr sz="4000"/>
            </a:br>
            <a:r>
              <a:rPr b="0" lang="en-US" sz="4000" spc="-1" strike="noStrike">
                <a:solidFill>
                  <a:srgbClr val="000000"/>
                </a:solidFill>
                <a:latin typeface="Arial"/>
              </a:rPr>
              <a:t>ΦΑΑ</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Χρονολογεί κεραμική, μέταλλα, σκωρίες πυριτόλιθο κ.α.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Χρήση ορατού φωτός συγκεκριμένου λ πλησίον του υπεριώδους, αλλά με διακριτό λ που αντιστοιχεί στο χαρακτηριστικό λ εκπομπής του κάθε χημικού στοιχείου.</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Δειγματοληψία</a:t>
            </a:r>
            <a:r>
              <a:rPr b="0" lang="el-GR" sz="2800" spc="-1" strike="noStrike">
                <a:solidFill>
                  <a:srgbClr val="000000"/>
                </a:solidFill>
                <a:latin typeface="Wingdings"/>
                <a:ea typeface="Wingdings"/>
              </a:rPr>
              <a:t></a:t>
            </a:r>
            <a:r>
              <a:rPr b="0" lang="el-GR" sz="2800" spc="-1" strike="noStrike">
                <a:solidFill>
                  <a:srgbClr val="000000"/>
                </a:solidFill>
                <a:latin typeface="Arial"/>
              </a:rPr>
              <a:t> δείγμα 1</a:t>
            </a:r>
            <a:r>
              <a:rPr b="0" lang="en-US" sz="2800" spc="-1" strike="noStrike">
                <a:solidFill>
                  <a:srgbClr val="000000"/>
                </a:solidFill>
                <a:latin typeface="Arial"/>
              </a:rPr>
              <a:t>0mg- 1g</a:t>
            </a:r>
            <a:r>
              <a:rPr b="0" lang="el-GR" sz="2800" spc="-1" strike="noStrike">
                <a:solidFill>
                  <a:srgbClr val="000000"/>
                </a:solidFill>
                <a:latin typeface="Arial"/>
              </a:rPr>
              <a:t> σε διάλυμα με ισχυρά οξέα.</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φάλμα </a:t>
            </a:r>
            <a:r>
              <a:rPr b="0" lang="en-US" sz="2800" spc="-1" strike="noStrike">
                <a:solidFill>
                  <a:srgbClr val="000000"/>
                </a:solidFill>
                <a:latin typeface="Arial"/>
              </a:rPr>
              <a:t>±</a:t>
            </a:r>
            <a:r>
              <a:rPr b="0" lang="el-GR" sz="2800" spc="-1" strike="noStrike">
                <a:solidFill>
                  <a:srgbClr val="000000"/>
                </a:solidFill>
                <a:latin typeface="Arial"/>
              </a:rPr>
              <a:t>2%</a:t>
            </a:r>
            <a:endParaRPr b="0" lang="en-US" sz="2800" spc="-1" strike="noStrike">
              <a:solidFill>
                <a:srgbClr val="000000"/>
              </a:solidFill>
              <a:latin typeface="Arial"/>
            </a:endParaRPr>
          </a:p>
        </p:txBody>
      </p:sp>
    </p:spTree>
  </p:cSld>
  <p:transition>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68360" y="6093000"/>
            <a:ext cx="8229600" cy="50472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Πηγή: Λυριτζής Ι., 2007, </a:t>
            </a:r>
            <a:r>
              <a:rPr b="0" i="1" lang="en-US" sz="1600" spc="-1" strike="noStrike">
                <a:solidFill>
                  <a:srgbClr val="000000"/>
                </a:solidFill>
                <a:latin typeface="Arial"/>
              </a:rPr>
              <a:t>Φυσικές Επιστήμες στην Αρχαιολογία, </a:t>
            </a:r>
            <a:r>
              <a:rPr b="0" lang="en-US" sz="1600" spc="-1" strike="noStrike">
                <a:solidFill>
                  <a:srgbClr val="000000"/>
                </a:solidFill>
                <a:latin typeface="Arial"/>
              </a:rPr>
              <a:t>Εκδόσεις Δάρδανος Τυπωθήτω, Αθήνα, σ.σ. 141</a:t>
            </a:r>
            <a:endParaRPr b="0" lang="en-US" sz="1600" spc="-1" strike="noStrike">
              <a:solidFill>
                <a:srgbClr val="000000"/>
              </a:solidFill>
              <a:latin typeface="Arial"/>
            </a:endParaRPr>
          </a:p>
        </p:txBody>
      </p:sp>
      <p:pic>
        <p:nvPicPr>
          <p:cNvPr id="58" name="" descr=""/>
          <p:cNvPicPr/>
          <p:nvPr/>
        </p:nvPicPr>
        <p:blipFill>
          <a:blip r:embed="rId2">
            <a:lum bright="12000"/>
          </a:blip>
          <a:stretch/>
        </p:blipFill>
        <p:spPr>
          <a:xfrm>
            <a:off x="0" y="1413000"/>
            <a:ext cx="9144000" cy="3054240"/>
          </a:xfrm>
          <a:prstGeom prst="rect">
            <a:avLst/>
          </a:prstGeom>
          <a:ln w="0">
            <a:noFill/>
          </a:ln>
        </p:spPr>
      </p:pic>
    </p:spTree>
  </p:cSld>
  <p:transition>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Μέτρηση έντασης μονοχρωματικού φωτός</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ύγκριση αρχικής έντασης δέσμης φωτός με την ένταση της ακτίνας που τελικά διέρχεται από το εκνέφωμα</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Μέτρηση με όρους απορρόφησης Α</a:t>
            </a:r>
            <a:endParaRPr b="0" lang="en-US" sz="2800" spc="-1" strike="noStrike">
              <a:solidFill>
                <a:srgbClr val="000000"/>
              </a:solidFill>
              <a:latin typeface="Arial"/>
            </a:endParaRPr>
          </a:p>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a:t>
            </a:r>
            <a:r>
              <a:rPr b="0" lang="en-US" sz="2800" spc="-1" strike="noStrike">
                <a:solidFill>
                  <a:srgbClr val="000000"/>
                </a:solidFill>
                <a:latin typeface="Arial"/>
              </a:rPr>
              <a:t> log </a:t>
            </a:r>
            <a:r>
              <a:rPr b="0" lang="el-GR" sz="2800" spc="-1" strike="noStrike">
                <a:solidFill>
                  <a:srgbClr val="000000"/>
                </a:solidFill>
                <a:latin typeface="Arial"/>
              </a:rPr>
              <a:t>Ι</a:t>
            </a:r>
            <a:r>
              <a:rPr b="0" lang="el-GR" sz="2800" spc="-1" strike="noStrike" baseline="-25000">
                <a:solidFill>
                  <a:srgbClr val="000000"/>
                </a:solidFill>
                <a:latin typeface="Arial"/>
              </a:rPr>
              <a:t>ο</a:t>
            </a:r>
            <a:r>
              <a:rPr b="0" lang="el-GR" sz="2800" spc="-1" strike="noStrike">
                <a:solidFill>
                  <a:srgbClr val="000000"/>
                </a:solidFill>
                <a:latin typeface="Arial"/>
              </a:rPr>
              <a:t>/ Ι</a:t>
            </a:r>
            <a:r>
              <a:rPr b="0" lang="el-GR" sz="2800" spc="-1" strike="noStrike" baseline="-25000">
                <a:solidFill>
                  <a:srgbClr val="000000"/>
                </a:solidFill>
                <a:latin typeface="Arial"/>
              </a:rPr>
              <a:t>τ</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νίχνευση έντασης δέσμης φωτός με φωτοπολλαπλασιαστή, καταγραφή σε καταγραφικό ή οθόνη</a:t>
            </a:r>
            <a:endParaRPr b="0" lang="en-US" sz="2800" spc="-1" strike="noStrike">
              <a:solidFill>
                <a:srgbClr val="000000"/>
              </a:solidFill>
              <a:latin typeface="Arial"/>
            </a:endParaRPr>
          </a:p>
          <a:p>
            <a:pPr marL="3394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ίδια διαδικασία για όλα τα χημικά στοιχεία του δείγματος</a:t>
            </a:r>
            <a:endParaRPr b="0" lang="en-US" sz="2800" spc="-1" strike="noStrike">
              <a:solidFill>
                <a:srgbClr val="000000"/>
              </a:solidFill>
              <a:latin typeface="Arial"/>
            </a:endParaRPr>
          </a:p>
        </p:txBody>
      </p:sp>
    </p:spTree>
  </p:cSld>
  <p:transition>
    <p:pull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Φασματοσκοπία ακτίνων Χ φθορισμού</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ctr">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Φασματοσκοπία ακτίνων Χ φθορισμού </a:t>
            </a:r>
            <a:r>
              <a:rPr b="0" lang="en-US" sz="3200" spc="-1" strike="noStrike">
                <a:solidFill>
                  <a:srgbClr val="000000"/>
                </a:solidFill>
                <a:latin typeface="Wingdings"/>
                <a:ea typeface="Wingdings"/>
              </a:rPr>
              <a:t></a:t>
            </a:r>
            <a:r>
              <a:rPr b="0" lang="en-US" sz="3200" spc="-1" strike="noStrike">
                <a:solidFill>
                  <a:srgbClr val="000000"/>
                </a:solidFill>
                <a:latin typeface="Arial"/>
              </a:rPr>
              <a:t> ποιοτική και ποσοτική πληροφορία χημικών στοιχείων </a:t>
            </a:r>
            <a:endParaRPr b="0" lang="en-US" sz="3200" spc="-1" strike="noStrike">
              <a:solidFill>
                <a:srgbClr val="000000"/>
              </a:solidFill>
              <a:latin typeface="Arial"/>
            </a:endParaRPr>
          </a:p>
          <a:p>
            <a:pPr marL="609480" indent="-609480" algn="ctr">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Περιθλασιομετρία ακτίνων Χ </a:t>
            </a:r>
            <a:r>
              <a:rPr b="0" lang="en-US" sz="3200" spc="-1" strike="noStrike">
                <a:solidFill>
                  <a:srgbClr val="000000"/>
                </a:solidFill>
                <a:latin typeface="Wingdings"/>
                <a:ea typeface="Wingdings"/>
              </a:rPr>
              <a:t></a:t>
            </a:r>
            <a:r>
              <a:rPr b="0" lang="en-US" sz="3200" spc="-1" strike="noStrike">
                <a:solidFill>
                  <a:srgbClr val="000000"/>
                </a:solidFill>
                <a:latin typeface="Arial"/>
              </a:rPr>
              <a:t> κρυσταλλογραφική δομή κρυστάλλων</a:t>
            </a:r>
            <a:endParaRPr b="0" lang="en-US" sz="3200" spc="-1" strike="noStrike">
              <a:solidFill>
                <a:srgbClr val="000000"/>
              </a:solidFill>
              <a:latin typeface="Arial"/>
            </a:endParaRPr>
          </a:p>
          <a:p>
            <a:pPr marL="609480" indent="-609480" algn="ctr">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Ραδιογραφία με ακτίνες Χ </a:t>
            </a:r>
            <a:r>
              <a:rPr b="0" lang="en-US" sz="3200" spc="-1" strike="noStrike">
                <a:solidFill>
                  <a:srgbClr val="000000"/>
                </a:solidFill>
                <a:latin typeface="Wingdings"/>
                <a:ea typeface="Wingdings"/>
              </a:rPr>
              <a:t></a:t>
            </a:r>
            <a:r>
              <a:rPr b="0" lang="en-US" sz="3200" spc="-1" strike="noStrike">
                <a:solidFill>
                  <a:srgbClr val="000000"/>
                </a:solidFill>
                <a:latin typeface="Arial"/>
              </a:rPr>
              <a:t> δομή ολόκληρου του αντικειμένου ως προς την ακτινογραφία</a:t>
            </a:r>
            <a:endParaRPr b="0" lang="en-US" sz="3200" spc="-1" strike="noStrike">
              <a:solidFill>
                <a:srgbClr val="000000"/>
              </a:solidFill>
              <a:latin typeface="Arial"/>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ΜΗ ΚΑΤΑΣΤΡΟΦΙΚΕΣ ΜΕΘΟΔΟΙ ##</a:t>
            </a:r>
            <a:endParaRPr b="0" lang="en-US" sz="3200" spc="-1" strike="noStrike">
              <a:solidFill>
                <a:srgbClr val="000000"/>
              </a:solidFill>
              <a:latin typeface="Arial"/>
            </a:endParaRPr>
          </a:p>
        </p:txBody>
      </p:sp>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9T07:02:29Z</dcterms:created>
  <dc:creator>Customer</dc:creator>
  <dc:description/>
  <dc:language>en-US</dc:language>
  <cp:lastModifiedBy> </cp:lastModifiedBy>
  <dcterms:modified xsi:type="dcterms:W3CDTF">2008-06-10T12:00:56Z</dcterms:modified>
  <cp:revision>6</cp:revision>
  <dc:subject/>
  <dc:title>Διαφάνεια 1</dc:title>
</cp:coreProperties>
</file>